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0.jpeg" ContentType="image/jpeg"/>
  <Override PartName="/ppt/media/image5.png" ContentType="image/png"/>
  <Override PartName="/ppt/media/image9.png" ContentType="image/png"/>
  <Override PartName="/ppt/media/image7.png" ContentType="image/png"/>
  <Override PartName="/ppt/media/image4.gif" ContentType="image/gif"/>
  <Override PartName="/ppt/media/image22.jpeg" ContentType="image/jpeg"/>
  <Override PartName="/ppt/media/image12.jpeg" ContentType="image/jpeg"/>
  <Override PartName="/ppt/media/image6.png" ContentType="image/png"/>
  <Override PartName="/ppt/media/image11.jpeg" ContentType="image/jpeg"/>
  <Override PartName="/ppt/media/image23.jpeg" ContentType="image/jpeg"/>
  <Override PartName="/ppt/media/image21.jpeg" ContentType="image/jpeg"/>
  <Override PartName="/ppt/media/image16.jpeg" ContentType="image/jpeg"/>
  <Override PartName="/ppt/media/image20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jpeg" ContentType="image/jpeg"/>
  <Override PartName="/ppt/media/image14.png" ContentType="image/png"/>
  <Override PartName="/ppt/media/image3.jpeg" ContentType="image/jpeg"/>
  <Override PartName="/ppt/media/image15.png" ContentType="image/png"/>
  <Override PartName="/ppt/media/image8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C215B-573B-4718-A11A-52BC13D95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F932C-4B88-493A-B9A8-7CB3D5F18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182BD-7E48-4726-8F23-8D5666C4A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E49E8-FD3F-45CB-A620-0432346CB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C3F50-CB9E-4BA5-B0FB-B44D12BD9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E454D-8605-437A-8A0E-7C1F4EFC8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4047D-139F-4A4E-8E9F-062646E5A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77182-915D-4F5E-AB3B-FD7713C9B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5C56C-6D3C-4367-87FD-B3B9AC916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48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ED9C4-33B9-4C38-9DFA-2CC8EA3C0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2CF68-BC35-4D59-857A-F19B45BCA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A84C4-F555-4FE1-875E-79CC519A9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36313-3DEE-4181-954D-B250F9AC8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EF40B-99D2-41DD-A74F-82E53A888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2E87E-8076-4E02-90B6-4D4FA680B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088CF-0F14-4BB4-AFA7-8344ED17D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DCEA2-236B-40D9-9C8B-D5376F627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BCE36-074E-4A21-B7BB-CB8F9F72B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FE433-0120-473A-BE10-C528D14C6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9C7E3-DFDA-4799-90C0-783F1A657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48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75A8B-90D2-4B88-A9C1-027E778B8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2CCC8-ED2A-4927-9D19-A1DE6E49C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0C741-C2B3-4A3B-BE47-C3236678C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1AB46-8FF7-4A81-9F57-DDC37ABE8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ff"/>
              </a:buClr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00440"/>
            <a:ext cx="289584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66"/>
                </a:solidFill>
                <a:latin typeface="Times New Roman"/>
                <a:ea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66"/>
                </a:solidFill>
                <a:latin typeface="Times New Roman"/>
                <a:ea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F3012-57F7-4AE9-900D-B55253680368}" type="slidenum">
              <a:rPr b="0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371600"/>
            <a:ext cx="830592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66"/>
                </a:solidFill>
                <a:latin typeface="Times New Roman"/>
                <a:ea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66"/>
                </a:solidFill>
                <a:latin typeface="Times New Roman"/>
                <a:ea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D667B-69AA-4729-91E4-CD0C23A85BF1}" type="slidenum">
              <a:rPr b="0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66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▪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33ff"/>
              </a:buClr>
              <a:buFont typeface="Arial"/>
              <a:buChar char="○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tenet.usc.edu/" TargetMode="External"/><Relationship Id="rId2" Type="http://schemas.openxmlformats.org/officeDocument/2006/relationships/hyperlink" Target="http://tenet.usc.edu/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Times New Roman"/>
                <a:ea typeface="굴림"/>
              </a:rPr>
              <a:t>The </a:t>
            </a:r>
            <a:r>
              <a:rPr b="1" i="1" lang="en-US" sz="4400" spc="-1" strike="noStrike">
                <a:solidFill>
                  <a:srgbClr val="000066"/>
                </a:solidFill>
                <a:latin typeface="Times New Roman"/>
                <a:ea typeface="굴림"/>
              </a:rPr>
              <a:t>Tenet</a:t>
            </a:r>
            <a:r>
              <a:rPr b="1" lang="en-US" sz="4000" spc="-1" strike="noStrike">
                <a:solidFill>
                  <a:srgbClr val="000066"/>
                </a:solidFill>
                <a:latin typeface="Times New Roman"/>
                <a:ea typeface="굴림"/>
              </a:rPr>
              <a:t> Architecture for Tiered Sensor Networks</a:t>
            </a: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4571640"/>
            <a:ext cx="6400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Ben Greenstein,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굴림"/>
              </a:rPr>
              <a:t>Jeongyeup Pa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Omprakash Gnawali, Ki-Young Jang, August Joki, Marcos Vieira, Deborah Estrin, Ramesh Govindan, Eddie Kohle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85760" y="6019920"/>
            <a:ext cx="1014480" cy="6746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7696080" y="228600"/>
            <a:ext cx="1289160" cy="87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Times New Roman"/>
                <a:ea typeface="굴림"/>
              </a:rPr>
              <a:t>Tasking Subsystem</a:t>
            </a: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028880" y="4471920"/>
            <a:ext cx="2514600" cy="480960"/>
          </a:xfrm>
          <a:prstGeom prst="rect">
            <a:avLst/>
          </a:prstGeom>
          <a:solidFill>
            <a:srgbClr val="ffcc66"/>
          </a:solidFill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Tasking Sub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410080" y="4471920"/>
            <a:ext cx="2895840" cy="480960"/>
          </a:xfrm>
          <a:prstGeom prst="rect">
            <a:avLst/>
          </a:prstGeom>
          <a:solidFill>
            <a:srgbClr val="eaeaea"/>
          </a:solidFill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c0c0"/>
                </a:solidFill>
                <a:latin typeface="Arial"/>
                <a:ea typeface="굴림"/>
              </a:rPr>
              <a:t>Networking Sub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52280" y="5562720"/>
            <a:ext cx="1371600" cy="533160"/>
          </a:xfrm>
          <a:prstGeom prst="rect">
            <a:avLst/>
          </a:prstGeom>
          <a:solidFill>
            <a:srgbClr val="ffff99"/>
          </a:solidFill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Task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Langu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600200" y="5562720"/>
            <a:ext cx="1371600" cy="533160"/>
          </a:xfrm>
          <a:prstGeom prst="rect">
            <a:avLst/>
          </a:prstGeom>
          <a:solidFill>
            <a:srgbClr val="ffff99"/>
          </a:solidFill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Tas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Pars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048120" y="5562720"/>
            <a:ext cx="1371600" cy="533160"/>
          </a:xfrm>
          <a:prstGeom prst="rect">
            <a:avLst/>
          </a:prstGeom>
          <a:solidFill>
            <a:srgbClr val="ffff99"/>
          </a:solidFill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Tasklets and Run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696080" y="5562720"/>
            <a:ext cx="1371600" cy="533160"/>
          </a:xfrm>
          <a:prstGeom prst="rect">
            <a:avLst/>
          </a:prstGeom>
          <a:solidFill>
            <a:srgbClr val="eaeaea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c0c0"/>
                </a:solidFill>
                <a:latin typeface="Arial"/>
                <a:ea typeface="굴림"/>
              </a:rPr>
              <a:t>Reli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c0c0"/>
                </a:solidFill>
                <a:latin typeface="Arial"/>
                <a:ea typeface="굴림"/>
              </a:rPr>
              <a:t>Trans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648320" y="5562720"/>
            <a:ext cx="1371600" cy="533160"/>
          </a:xfrm>
          <a:prstGeom prst="rect">
            <a:avLst/>
          </a:prstGeom>
          <a:solidFill>
            <a:srgbClr val="eaeaea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 anchorCtr="1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c0c0"/>
                </a:solidFill>
                <a:latin typeface="Arial"/>
                <a:ea typeface="굴림"/>
              </a:rPr>
              <a:t>Rou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095880" y="5562720"/>
            <a:ext cx="1524240" cy="533160"/>
          </a:xfrm>
          <a:prstGeom prst="rect">
            <a:avLst/>
          </a:prstGeom>
          <a:solidFill>
            <a:srgbClr val="eaeaea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c0c0"/>
                </a:solidFill>
                <a:latin typeface="Arial"/>
                <a:ea typeface="굴림"/>
              </a:rPr>
              <a:t>Task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c0c0"/>
                </a:solidFill>
                <a:latin typeface="Arial"/>
                <a:ea typeface="굴림"/>
              </a:rPr>
              <a:t>Dissemin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4" name=""/>
          <p:cNvCxnSpPr>
            <a:stCxn id="216" idx="2"/>
            <a:endCxn id="218" idx="0"/>
          </p:cNvCxnSpPr>
          <p:nvPr/>
        </p:nvCxnSpPr>
        <p:spPr>
          <a:xfrm flipH="1">
            <a:off x="837720" y="4967280"/>
            <a:ext cx="1448640" cy="596160"/>
          </a:xfrm>
          <a:prstGeom prst="straightConnector1">
            <a:avLst/>
          </a:prstGeom>
          <a:ln w="28440">
            <a:solidFill>
              <a:srgbClr val="cc6600"/>
            </a:solidFill>
            <a:miter/>
          </a:ln>
        </p:spPr>
      </p:cxnSp>
      <p:cxnSp>
        <p:nvCxnSpPr>
          <p:cNvPr id="225" name=""/>
          <p:cNvCxnSpPr>
            <a:stCxn id="216" idx="2"/>
            <a:endCxn id="219" idx="0"/>
          </p:cNvCxnSpPr>
          <p:nvPr/>
        </p:nvCxnSpPr>
        <p:spPr>
          <a:xfrm>
            <a:off x="2285640" y="4967280"/>
            <a:ext cx="1080" cy="596160"/>
          </a:xfrm>
          <a:prstGeom prst="straightConnector1">
            <a:avLst/>
          </a:prstGeom>
          <a:ln w="28440">
            <a:solidFill>
              <a:srgbClr val="cc6600"/>
            </a:solidFill>
            <a:miter/>
          </a:ln>
        </p:spPr>
      </p:cxnSp>
      <p:cxnSp>
        <p:nvCxnSpPr>
          <p:cNvPr id="226" name=""/>
          <p:cNvCxnSpPr>
            <a:stCxn id="216" idx="2"/>
            <a:endCxn id="220" idx="0"/>
          </p:cNvCxnSpPr>
          <p:nvPr/>
        </p:nvCxnSpPr>
        <p:spPr>
          <a:xfrm>
            <a:off x="2286000" y="4967280"/>
            <a:ext cx="1448640" cy="596160"/>
          </a:xfrm>
          <a:prstGeom prst="straightConnector1">
            <a:avLst/>
          </a:prstGeom>
          <a:ln w="28440">
            <a:solidFill>
              <a:srgbClr val="cc6600"/>
            </a:solidFill>
            <a:miter/>
          </a:ln>
        </p:spPr>
      </p:cxnSp>
      <p:cxnSp>
        <p:nvCxnSpPr>
          <p:cNvPr id="227" name=""/>
          <p:cNvCxnSpPr>
            <a:stCxn id="217" idx="2"/>
            <a:endCxn id="223" idx="0"/>
          </p:cNvCxnSpPr>
          <p:nvPr/>
        </p:nvCxnSpPr>
        <p:spPr>
          <a:xfrm>
            <a:off x="6857640" y="4967280"/>
            <a:ext cx="1080" cy="596160"/>
          </a:xfrm>
          <a:prstGeom prst="straightConnector1">
            <a:avLst/>
          </a:prstGeom>
          <a:ln w="28440">
            <a:solidFill>
              <a:srgbClr val="dddddd"/>
            </a:solidFill>
            <a:miter/>
          </a:ln>
        </p:spPr>
      </p:cxnSp>
      <p:cxnSp>
        <p:nvCxnSpPr>
          <p:cNvPr id="228" name=""/>
          <p:cNvCxnSpPr>
            <a:stCxn id="217" idx="2"/>
            <a:endCxn id="222" idx="0"/>
          </p:cNvCxnSpPr>
          <p:nvPr/>
        </p:nvCxnSpPr>
        <p:spPr>
          <a:xfrm flipH="1">
            <a:off x="5333400" y="4967280"/>
            <a:ext cx="1524600" cy="596160"/>
          </a:xfrm>
          <a:prstGeom prst="straightConnector1">
            <a:avLst/>
          </a:prstGeom>
          <a:ln w="28440">
            <a:solidFill>
              <a:srgbClr val="dddddd"/>
            </a:solidFill>
            <a:miter/>
          </a:ln>
        </p:spPr>
      </p:cxnSp>
      <p:cxnSp>
        <p:nvCxnSpPr>
          <p:cNvPr id="229" name=""/>
          <p:cNvCxnSpPr>
            <a:stCxn id="217" idx="2"/>
            <a:endCxn id="221" idx="0"/>
          </p:cNvCxnSpPr>
          <p:nvPr/>
        </p:nvCxnSpPr>
        <p:spPr>
          <a:xfrm>
            <a:off x="6857640" y="4967280"/>
            <a:ext cx="1524600" cy="596160"/>
          </a:xfrm>
          <a:prstGeom prst="straightConnector1">
            <a:avLst/>
          </a:prstGeom>
          <a:ln w="28440">
            <a:solidFill>
              <a:srgbClr val="dddddd"/>
            </a:solidFill>
            <a:miter/>
          </a:ln>
        </p:spPr>
      </p:cxnSp>
      <p:sp>
        <p:nvSpPr>
          <p:cNvPr id="230" name=""/>
          <p:cNvSpPr/>
          <p:nvPr/>
        </p:nvSpPr>
        <p:spPr>
          <a:xfrm>
            <a:off x="3301920" y="3481560"/>
            <a:ext cx="2514600" cy="480960"/>
          </a:xfrm>
          <a:prstGeom prst="rect">
            <a:avLst/>
          </a:prstGeom>
          <a:solidFill>
            <a:srgbClr val="eaeaea"/>
          </a:solidFill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c0c0"/>
                </a:solidFill>
                <a:latin typeface="Arial"/>
                <a:ea typeface="굴림"/>
              </a:rPr>
              <a:t>Tene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1" name=""/>
          <p:cNvCxnSpPr>
            <a:stCxn id="230" idx="2"/>
            <a:endCxn id="216" idx="0"/>
          </p:cNvCxnSpPr>
          <p:nvPr/>
        </p:nvCxnSpPr>
        <p:spPr>
          <a:xfrm flipH="1">
            <a:off x="2285280" y="3981240"/>
            <a:ext cx="2274120" cy="477000"/>
          </a:xfrm>
          <a:prstGeom prst="straightConnector1">
            <a:avLst/>
          </a:prstGeom>
          <a:ln w="28440">
            <a:solidFill>
              <a:srgbClr val="dddddd"/>
            </a:solidFill>
            <a:miter/>
          </a:ln>
        </p:spPr>
      </p:cxnSp>
      <p:cxnSp>
        <p:nvCxnSpPr>
          <p:cNvPr id="232" name=""/>
          <p:cNvCxnSpPr>
            <a:stCxn id="230" idx="2"/>
            <a:endCxn id="217" idx="0"/>
          </p:cNvCxnSpPr>
          <p:nvPr/>
        </p:nvCxnSpPr>
        <p:spPr>
          <a:xfrm>
            <a:off x="4559040" y="3981240"/>
            <a:ext cx="2299320" cy="477000"/>
          </a:xfrm>
          <a:prstGeom prst="straightConnector1">
            <a:avLst/>
          </a:prstGeom>
          <a:ln w="28440">
            <a:solidFill>
              <a:srgbClr val="dddddd"/>
            </a:solidFill>
            <a:miter/>
          </a:ln>
        </p:spPr>
      </p:cxn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Go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Flexibility: Allow many applications to be implemen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Efficiency: Respect mote constra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Generality: Avoid embedding application-specific functiona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Simplicity: Non-expert users should be able to develop applic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85D90-7136-4435-A98E-DC2015F4C0A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Times New Roman"/>
                <a:ea typeface="굴림"/>
              </a:rPr>
              <a:t>Tasking Language</a:t>
            </a: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569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Linear data-flow language allowing flexible composition of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굴림"/>
              </a:rPr>
              <a:t>taskl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A tasklet specifies an elementary sensing, actuation, or data processing 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Tasklets can have several parameters, hence flexi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Tasklets can be 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  <a:ea typeface="굴림"/>
              </a:rPr>
              <a:t>composed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to form a ta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  <a:ea typeface="굴림"/>
              </a:rPr>
              <a:t>Sample(</a:t>
            </a:r>
            <a:r>
              <a:rPr b="1" lang="en-US" sz="1600" spc="-1" strike="noStrike">
                <a:solidFill>
                  <a:srgbClr val="009999"/>
                </a:solidFill>
                <a:latin typeface="Arial"/>
                <a:ea typeface="굴림"/>
              </a:rPr>
              <a:t>500ms, REPEAT, ADC0, LIGHT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  <a:ea typeface="굴림"/>
              </a:rPr>
              <a:t>) </a:t>
            </a:r>
            <a:r>
              <a:rPr b="1" lang="en-US" sz="1800" spc="-1" strike="noStrike">
                <a:solidFill>
                  <a:srgbClr val="990000"/>
                </a:solidFill>
                <a:latin typeface="Wingdings"/>
                <a:ea typeface="Wingdings"/>
              </a:rPr>
              <a:t>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  <a:ea typeface="굴림"/>
              </a:rPr>
              <a:t> Sen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No loops, branches: eases construction and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Not Turing-complete: aggressively simple, but supports wide range of proposed applic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857160" y="5410080"/>
            <a:ext cx="7407360" cy="5335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Data-flow style language natural for sensor data process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0B04D-EF8B-4EE4-8E68-81EACEFCAC3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Times New Roman"/>
                <a:ea typeface="굴림"/>
              </a:rPr>
              <a:t>Classes of Tasklets</a:t>
            </a: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Reboo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G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S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Task Manip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Issue (Wait, Alar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DeleteTaskI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DeleteActiveTaskI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Sensor/Actu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S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Actu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Data Manip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Arithm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Comparis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Logic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Bitw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Stat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DeleteAttributeI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Miscellane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Stor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Count / Consta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3A3A4-A432-4E46-9486-501451058653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Times New Roman"/>
                <a:ea typeface="굴림"/>
              </a:rPr>
              <a:t>Task Compositions…</a:t>
            </a: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CntToLedsAndRf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SenseToRf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With time-stamp and seq. nu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Get memory status for node 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If sample value is above 50, send sample data, node-id and time-stam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914400" y="1981080"/>
            <a:ext cx="3505320" cy="381240"/>
            <a:chOff x="914400" y="1981080"/>
            <a:chExt cx="3505320" cy="381240"/>
          </a:xfrm>
        </p:grpSpPr>
        <p:sp>
          <p:nvSpPr>
            <p:cNvPr id="243" name=""/>
            <p:cNvSpPr/>
            <p:nvPr/>
          </p:nvSpPr>
          <p:spPr>
            <a:xfrm>
              <a:off x="914400" y="1981080"/>
              <a:ext cx="685800" cy="381240"/>
            </a:xfrm>
            <a:prstGeom prst="rect">
              <a:avLst/>
            </a:prstGeom>
            <a:solidFill>
              <a:srgbClr val="99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Wai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828800" y="1981080"/>
              <a:ext cx="685800" cy="3812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Cou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743200" y="1981080"/>
              <a:ext cx="685800" cy="38124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Ligh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657600" y="1981080"/>
              <a:ext cx="762120" cy="3812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Sen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600200" y="2162160"/>
              <a:ext cx="228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514600" y="2162160"/>
              <a:ext cx="228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429000" y="2162160"/>
              <a:ext cx="228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"/>
          <p:cNvGrpSpPr/>
          <p:nvPr/>
        </p:nvGrpSpPr>
        <p:grpSpPr>
          <a:xfrm>
            <a:off x="914400" y="2895480"/>
            <a:ext cx="1905120" cy="381240"/>
            <a:chOff x="914400" y="2895480"/>
            <a:chExt cx="1905120" cy="381240"/>
          </a:xfrm>
        </p:grpSpPr>
        <p:sp>
          <p:nvSpPr>
            <p:cNvPr id="251" name=""/>
            <p:cNvSpPr/>
            <p:nvPr/>
          </p:nvSpPr>
          <p:spPr>
            <a:xfrm>
              <a:off x="914400" y="2895480"/>
              <a:ext cx="914400" cy="3812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Samp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057400" y="2895480"/>
              <a:ext cx="762120" cy="3812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Sen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828800" y="3076560"/>
              <a:ext cx="228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914400" y="3809880"/>
            <a:ext cx="4343400" cy="381240"/>
            <a:chOff x="914400" y="3809880"/>
            <a:chExt cx="4343400" cy="381240"/>
          </a:xfrm>
        </p:grpSpPr>
        <p:sp>
          <p:nvSpPr>
            <p:cNvPr id="255" name=""/>
            <p:cNvSpPr/>
            <p:nvPr/>
          </p:nvSpPr>
          <p:spPr>
            <a:xfrm>
              <a:off x="3581280" y="3809880"/>
              <a:ext cx="685800" cy="3812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Cou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057400" y="3809880"/>
              <a:ext cx="1295280" cy="38124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StampTim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495680" y="3809880"/>
              <a:ext cx="762120" cy="3812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Sen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352680" y="3990960"/>
              <a:ext cx="228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267080" y="3995640"/>
              <a:ext cx="228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914400" y="3809880"/>
              <a:ext cx="914400" cy="3812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Samp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828800" y="3990960"/>
              <a:ext cx="228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914400" y="4724280"/>
            <a:ext cx="5334120" cy="381240"/>
            <a:chOff x="914400" y="4724280"/>
            <a:chExt cx="5334120" cy="381240"/>
          </a:xfrm>
        </p:grpSpPr>
        <p:sp>
          <p:nvSpPr>
            <p:cNvPr id="263" name=""/>
            <p:cNvSpPr/>
            <p:nvPr/>
          </p:nvSpPr>
          <p:spPr>
            <a:xfrm>
              <a:off x="3962520" y="4724280"/>
              <a:ext cx="1295280" cy="3812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MemSta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486400" y="4724280"/>
              <a:ext cx="762120" cy="3812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Sen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257800" y="4905360"/>
              <a:ext cx="228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828800" y="4924440"/>
              <a:ext cx="228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914400" y="4724280"/>
              <a:ext cx="914400" cy="3812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Addres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733920" y="4905360"/>
              <a:ext cx="228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057400" y="4724280"/>
              <a:ext cx="685800" cy="3812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NEQ(10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971800" y="4724280"/>
              <a:ext cx="762120" cy="3812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DeleteIf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743200" y="4924440"/>
              <a:ext cx="228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914400" y="5638680"/>
            <a:ext cx="6629400" cy="381240"/>
            <a:chOff x="914400" y="5638680"/>
            <a:chExt cx="6629400" cy="381240"/>
          </a:xfrm>
        </p:grpSpPr>
        <p:sp>
          <p:nvSpPr>
            <p:cNvPr id="273" name=""/>
            <p:cNvSpPr/>
            <p:nvPr/>
          </p:nvSpPr>
          <p:spPr>
            <a:xfrm>
              <a:off x="914400" y="5638680"/>
              <a:ext cx="914400" cy="3812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Samp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828800" y="5819760"/>
              <a:ext cx="228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057400" y="5638680"/>
              <a:ext cx="685800" cy="3812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LT(50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114800" y="5834160"/>
              <a:ext cx="228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971800" y="5638680"/>
              <a:ext cx="1143000" cy="3812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DeleteATaskIf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743200" y="5838840"/>
              <a:ext cx="228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343400" y="5638680"/>
              <a:ext cx="914400" cy="3812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Addres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257800" y="5824440"/>
              <a:ext cx="228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486400" y="5638680"/>
              <a:ext cx="1066680" cy="38124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StampTim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781680" y="5638680"/>
              <a:ext cx="762120" cy="3812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Sen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553080" y="5819760"/>
              <a:ext cx="228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6654960" y="398520"/>
            <a:ext cx="1955520" cy="2725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2652B-9D5B-4178-AEBE-994F63967D1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Times New Roman"/>
                <a:ea typeface="굴림"/>
              </a:rPr>
              <a:t>How many Tenet tasks can a mote run at the same time?</a:t>
            </a:r>
            <a:endParaRPr b="1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124080" y="2257560"/>
            <a:ext cx="511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굴림"/>
              </a:rPr>
              <a:t>+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648320" y="4419720"/>
            <a:ext cx="4190760" cy="7642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굴림"/>
              </a:rPr>
              <a:t>Memory is the constraint, and task complexity matters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8" name=""/>
          <p:cNvGraphicFramePr/>
          <p:nvPr/>
        </p:nvGraphicFramePr>
        <p:xfrm>
          <a:off x="380880" y="4383000"/>
          <a:ext cx="3885840" cy="1865160"/>
        </p:xfrm>
        <a:graphic>
          <a:graphicData uri="http://schemas.openxmlformats.org/drawingml/2006/table">
            <a:tbl>
              <a:tblPr/>
              <a:tblGrid>
                <a:gridCol w="1037160"/>
                <a:gridCol w="611640"/>
                <a:gridCol w="269280"/>
                <a:gridCol w="272520"/>
                <a:gridCol w="270720"/>
                <a:gridCol w="542160"/>
                <a:gridCol w="882360"/>
              </a:tblGrid>
              <a:tr h="455760">
                <a:tc gridSpan="7">
                  <a:txBody>
                    <a:bodyPr lIns="0" rIns="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Memory Usage (~5KB heap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44960">
                <a:tc>
                  <a:txBody>
                    <a:bodyPr lIns="0" rIns="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Sample(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Se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 gridSpan="4">
                  <a:txBody>
                    <a:bodyPr lIns="0" rIns="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10Byt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200">
                <a:tc>
                  <a:txBody>
                    <a:bodyPr lIns="0" rIns="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Sample(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Stamp Ti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C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G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0" rIns="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D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Se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80Byt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4240">
                <a:tc>
                  <a:txBody>
                    <a:bodyPr lIns="0" rIns="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Sample(40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Se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 gridSpan="4">
                  <a:txBody>
                    <a:bodyPr lIns="0" rIns="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90Byt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pSp>
        <p:nvGrpSpPr>
          <p:cNvPr id="289" name=""/>
          <p:cNvGrpSpPr/>
          <p:nvPr/>
        </p:nvGrpSpPr>
        <p:grpSpPr>
          <a:xfrm>
            <a:off x="682200" y="2938320"/>
            <a:ext cx="7709760" cy="403920"/>
            <a:chOff x="682200" y="2938320"/>
            <a:chExt cx="7709760" cy="403920"/>
          </a:xfrm>
        </p:grpSpPr>
        <p:sp>
          <p:nvSpPr>
            <p:cNvPr id="290" name=""/>
            <p:cNvSpPr/>
            <p:nvPr/>
          </p:nvSpPr>
          <p:spPr>
            <a:xfrm>
              <a:off x="7615440" y="2938320"/>
              <a:ext cx="776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굴림"/>
                </a:rPr>
                <a:t>task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500640" y="2938320"/>
              <a:ext cx="990360" cy="3812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 anchorCtr="1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Classify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Amplitud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719600" y="2938320"/>
              <a:ext cx="959040" cy="3812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 anchorCtr="1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Gather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Statistic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862600" y="2938320"/>
              <a:ext cx="870120" cy="3812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 anchorCtr="1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Delete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Attribut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214640" y="2938320"/>
              <a:ext cx="1131840" cy="3812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 anchorCtr="1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Sample(1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929640" y="2938320"/>
              <a:ext cx="609480" cy="3812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 anchorCtr="1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Sen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2586240" y="2938320"/>
              <a:ext cx="696960" cy="3812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 anchorCtr="1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Stamp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Tim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7" name=""/>
            <p:cNvCxnSpPr>
              <a:stCxn id="294" idx="3"/>
              <a:endCxn id="296" idx="1"/>
            </p:cNvCxnSpPr>
            <p:nvPr/>
          </p:nvCxnSpPr>
          <p:spPr>
            <a:xfrm>
              <a:off x="2346480" y="3128760"/>
              <a:ext cx="240480" cy="10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8" name=""/>
            <p:cNvCxnSpPr>
              <a:stCxn id="296" idx="3"/>
              <a:endCxn id="291" idx="1"/>
            </p:cNvCxnSpPr>
            <p:nvPr/>
          </p:nvCxnSpPr>
          <p:spPr>
            <a:xfrm>
              <a:off x="3283200" y="3128760"/>
              <a:ext cx="218160" cy="10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9" name=""/>
            <p:cNvCxnSpPr>
              <a:stCxn id="291" idx="3"/>
              <a:endCxn id="292" idx="1"/>
            </p:cNvCxnSpPr>
            <p:nvPr/>
          </p:nvCxnSpPr>
          <p:spPr>
            <a:xfrm>
              <a:off x="4490640" y="3128760"/>
              <a:ext cx="229320" cy="10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00" name=""/>
            <p:cNvCxnSpPr>
              <a:stCxn id="292" idx="3"/>
              <a:endCxn id="293" idx="1"/>
            </p:cNvCxnSpPr>
            <p:nvPr/>
          </p:nvCxnSpPr>
          <p:spPr>
            <a:xfrm>
              <a:off x="5678280" y="3128760"/>
              <a:ext cx="184680" cy="10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01" name=""/>
            <p:cNvCxnSpPr>
              <a:stCxn id="293" idx="3"/>
              <a:endCxn id="295" idx="1"/>
            </p:cNvCxnSpPr>
            <p:nvPr/>
          </p:nvCxnSpPr>
          <p:spPr>
            <a:xfrm>
              <a:off x="6732360" y="3128760"/>
              <a:ext cx="197640" cy="10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02" name=""/>
            <p:cNvSpPr/>
            <p:nvPr/>
          </p:nvSpPr>
          <p:spPr>
            <a:xfrm>
              <a:off x="682200" y="294336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굴림"/>
                </a:rPr>
                <a:t>2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672480" y="2909880"/>
            <a:ext cx="5866200" cy="703800"/>
            <a:chOff x="672480" y="2909880"/>
            <a:chExt cx="5866200" cy="703800"/>
          </a:xfrm>
        </p:grpSpPr>
        <p:sp>
          <p:nvSpPr>
            <p:cNvPr id="304" name=""/>
            <p:cNvSpPr/>
            <p:nvPr/>
          </p:nvSpPr>
          <p:spPr>
            <a:xfrm>
              <a:off x="3490920" y="2930400"/>
              <a:ext cx="990360" cy="3812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 anchorCtr="1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Classify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Amplitud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204920" y="2930400"/>
              <a:ext cx="1131840" cy="3812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 anchorCtr="1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Sample(1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709880" y="2930400"/>
              <a:ext cx="609840" cy="3812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 anchorCtr="1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Sen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576520" y="2930400"/>
              <a:ext cx="696960" cy="3812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 anchorCtr="1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Stamp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Tim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08" name=""/>
            <p:cNvCxnSpPr>
              <a:stCxn id="305" idx="3"/>
              <a:endCxn id="307" idx="1"/>
            </p:cNvCxnSpPr>
            <p:nvPr/>
          </p:nvCxnSpPr>
          <p:spPr>
            <a:xfrm>
              <a:off x="2336760" y="3120840"/>
              <a:ext cx="240480" cy="10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09" name=""/>
            <p:cNvCxnSpPr>
              <a:stCxn id="307" idx="3"/>
              <a:endCxn id="304" idx="1"/>
            </p:cNvCxnSpPr>
            <p:nvPr/>
          </p:nvCxnSpPr>
          <p:spPr>
            <a:xfrm>
              <a:off x="3273480" y="3120840"/>
              <a:ext cx="218160" cy="10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10" name=""/>
            <p:cNvCxnSpPr>
              <a:stCxn id="304" idx="3"/>
              <a:endCxn id="306" idx="1"/>
            </p:cNvCxnSpPr>
            <p:nvPr/>
          </p:nvCxnSpPr>
          <p:spPr>
            <a:xfrm>
              <a:off x="4480920" y="3120840"/>
              <a:ext cx="229320" cy="10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11" name=""/>
            <p:cNvSpPr/>
            <p:nvPr/>
          </p:nvSpPr>
          <p:spPr>
            <a:xfrm>
              <a:off x="5395680" y="2909880"/>
              <a:ext cx="1143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굴림"/>
                </a:rPr>
                <a:t>tasks, o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72480" y="291312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굴림"/>
                </a:rPr>
                <a:t>3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3" name=""/>
          <p:cNvGrpSpPr/>
          <p:nvPr/>
        </p:nvGrpSpPr>
        <p:grpSpPr>
          <a:xfrm>
            <a:off x="673560" y="2862360"/>
            <a:ext cx="4036320" cy="459720"/>
            <a:chOff x="673560" y="2862360"/>
            <a:chExt cx="4036320" cy="459720"/>
          </a:xfrm>
        </p:grpSpPr>
        <p:sp>
          <p:nvSpPr>
            <p:cNvPr id="314" name=""/>
            <p:cNvSpPr/>
            <p:nvPr/>
          </p:nvSpPr>
          <p:spPr>
            <a:xfrm>
              <a:off x="1204920" y="2930400"/>
              <a:ext cx="1131840" cy="3812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 anchorCtr="1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Sample(1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576520" y="2930400"/>
              <a:ext cx="696960" cy="3812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 anchorCtr="1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Sen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16" name=""/>
            <p:cNvCxnSpPr/>
            <p:nvPr/>
          </p:nvCxnSpPr>
          <p:spPr>
            <a:xfrm>
              <a:off x="2336760" y="3130200"/>
              <a:ext cx="240480" cy="10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17" name=""/>
            <p:cNvSpPr/>
            <p:nvPr/>
          </p:nvSpPr>
          <p:spPr>
            <a:xfrm>
              <a:off x="3338280" y="2909880"/>
              <a:ext cx="137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굴림"/>
                </a:rPr>
                <a:t>task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73560" y="286236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Arial"/>
                  <a:ea typeface="굴림"/>
                </a:rPr>
                <a:t>3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9" name=""/>
          <p:cNvGrpSpPr/>
          <p:nvPr/>
        </p:nvGrpSpPr>
        <p:grpSpPr>
          <a:xfrm>
            <a:off x="676080" y="1904040"/>
            <a:ext cx="5526000" cy="412560"/>
            <a:chOff x="676080" y="1904040"/>
            <a:chExt cx="5526000" cy="412560"/>
          </a:xfrm>
        </p:grpSpPr>
        <p:sp>
          <p:nvSpPr>
            <p:cNvPr id="320" name=""/>
            <p:cNvSpPr/>
            <p:nvPr/>
          </p:nvSpPr>
          <p:spPr>
            <a:xfrm>
              <a:off x="1214640" y="1935360"/>
              <a:ext cx="522000" cy="3808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 anchorCtr="1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Wai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976400" y="1935360"/>
              <a:ext cx="696960" cy="38088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 anchorCtr="1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Stamp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Tim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2890800" y="1935360"/>
              <a:ext cx="95904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 anchorCtr="1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Memory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Sta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4065840" y="1935360"/>
              <a:ext cx="609480" cy="38088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 anchorCtr="1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Next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Ho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872240" y="1935360"/>
              <a:ext cx="609480" cy="3808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 anchorCtr="1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Sen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25" name=""/>
            <p:cNvCxnSpPr>
              <a:stCxn id="320" idx="3"/>
              <a:endCxn id="321" idx="1"/>
            </p:cNvCxnSpPr>
            <p:nvPr/>
          </p:nvCxnSpPr>
          <p:spPr>
            <a:xfrm>
              <a:off x="1736640" y="2125440"/>
              <a:ext cx="240480" cy="10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26" name=""/>
            <p:cNvCxnSpPr>
              <a:stCxn id="321" idx="3"/>
              <a:endCxn id="322" idx="1"/>
            </p:cNvCxnSpPr>
            <p:nvPr/>
          </p:nvCxnSpPr>
          <p:spPr>
            <a:xfrm>
              <a:off x="2673360" y="2125440"/>
              <a:ext cx="218160" cy="10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27" name=""/>
            <p:cNvCxnSpPr>
              <a:stCxn id="322" idx="3"/>
              <a:endCxn id="323" idx="1"/>
            </p:cNvCxnSpPr>
            <p:nvPr/>
          </p:nvCxnSpPr>
          <p:spPr>
            <a:xfrm>
              <a:off x="3849840" y="2125440"/>
              <a:ext cx="216720" cy="10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28" name=""/>
            <p:cNvCxnSpPr>
              <a:stCxn id="323" idx="3"/>
              <a:endCxn id="324" idx="1"/>
            </p:cNvCxnSpPr>
            <p:nvPr/>
          </p:nvCxnSpPr>
          <p:spPr>
            <a:xfrm>
              <a:off x="4674960" y="2125440"/>
              <a:ext cx="197640" cy="10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29" name=""/>
            <p:cNvSpPr/>
            <p:nvPr/>
          </p:nvSpPr>
          <p:spPr>
            <a:xfrm>
              <a:off x="5553360" y="1917720"/>
              <a:ext cx="64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굴림"/>
                </a:rPr>
                <a:t>tas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676080" y="190404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굴림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1" name=""/>
          <p:cNvSpPr/>
          <p:nvPr/>
        </p:nvSpPr>
        <p:spPr>
          <a:xfrm>
            <a:off x="1143000" y="1906560"/>
            <a:ext cx="4343400" cy="4597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Network Monito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2" name=""/>
          <p:cNvGrpSpPr/>
          <p:nvPr/>
        </p:nvGrpSpPr>
        <p:grpSpPr>
          <a:xfrm>
            <a:off x="525600" y="2895480"/>
            <a:ext cx="5805360" cy="459720"/>
            <a:chOff x="525600" y="2895480"/>
            <a:chExt cx="5805360" cy="459720"/>
          </a:xfrm>
        </p:grpSpPr>
        <p:sp>
          <p:nvSpPr>
            <p:cNvPr id="333" name=""/>
            <p:cNvSpPr/>
            <p:nvPr/>
          </p:nvSpPr>
          <p:spPr>
            <a:xfrm>
              <a:off x="5554440" y="2920680"/>
              <a:ext cx="776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굴림"/>
                </a:rPr>
                <a:t>task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25600" y="2907000"/>
              <a:ext cx="33624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굴림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1139760" y="2895480"/>
              <a:ext cx="4343400" cy="45972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Sensing Applic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6" name=""/>
          <p:cNvSpPr/>
          <p:nvPr/>
        </p:nvSpPr>
        <p:spPr>
          <a:xfrm>
            <a:off x="990720" y="3819600"/>
            <a:ext cx="32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(…on </a:t>
            </a:r>
            <a:r>
              <a:rPr b="1" lang="en-US" sz="2000" spc="-1" strike="noStrike">
                <a:solidFill>
                  <a:srgbClr val="990000"/>
                </a:solidFill>
                <a:latin typeface="Arial"/>
                <a:ea typeface="굴림"/>
              </a:rPr>
              <a:t>Tmote Sk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mo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F2601-5269-40AF-A27B-7E62C4012A1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Times New Roman"/>
                <a:ea typeface="굴림"/>
              </a:rPr>
              <a:t>Overview of Networking Subsystem</a:t>
            </a: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028880" y="4038480"/>
            <a:ext cx="2514600" cy="480960"/>
          </a:xfrm>
          <a:prstGeom prst="rect">
            <a:avLst/>
          </a:prstGeom>
          <a:solidFill>
            <a:srgbClr val="eaeaea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c0c0"/>
                </a:solidFill>
                <a:latin typeface="Arial"/>
                <a:ea typeface="굴림"/>
              </a:rPr>
              <a:t>Tasking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5410080" y="4038480"/>
            <a:ext cx="2895840" cy="480960"/>
          </a:xfrm>
          <a:prstGeom prst="rect">
            <a:avLst/>
          </a:prstGeom>
          <a:solidFill>
            <a:srgbClr val="00cc99"/>
          </a:solidFill>
          <a:ln w="284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Networking Sub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152280" y="5181480"/>
            <a:ext cx="1371600" cy="533520"/>
          </a:xfrm>
          <a:prstGeom prst="rect">
            <a:avLst/>
          </a:prstGeom>
          <a:solidFill>
            <a:srgbClr val="eaeaea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c0c0"/>
                </a:solidFill>
                <a:latin typeface="Arial"/>
                <a:ea typeface="굴림"/>
              </a:rPr>
              <a:t>Task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c0c0"/>
                </a:solidFill>
                <a:latin typeface="Arial"/>
                <a:ea typeface="굴림"/>
              </a:rPr>
              <a:t>Langu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1600200" y="5181480"/>
            <a:ext cx="1371600" cy="533520"/>
          </a:xfrm>
          <a:prstGeom prst="rect">
            <a:avLst/>
          </a:prstGeom>
          <a:solidFill>
            <a:srgbClr val="eaeaea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c0c0"/>
                </a:solidFill>
                <a:latin typeface="Arial"/>
                <a:ea typeface="굴림"/>
              </a:rPr>
              <a:t>Tas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c0c0"/>
                </a:solidFill>
                <a:latin typeface="Arial"/>
                <a:ea typeface="굴림"/>
              </a:rPr>
              <a:t>Pars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3048120" y="5181480"/>
            <a:ext cx="1371600" cy="533520"/>
          </a:xfrm>
          <a:prstGeom prst="rect">
            <a:avLst/>
          </a:prstGeom>
          <a:solidFill>
            <a:srgbClr val="eaeaea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c0c0"/>
                </a:solidFill>
                <a:latin typeface="Arial"/>
                <a:ea typeface="굴림"/>
              </a:rPr>
              <a:t>Tasklets and Run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3" name=""/>
          <p:cNvCxnSpPr>
            <a:stCxn id="338" idx="2"/>
            <a:endCxn id="340" idx="0"/>
          </p:cNvCxnSpPr>
          <p:nvPr/>
        </p:nvCxnSpPr>
        <p:spPr>
          <a:xfrm flipH="1">
            <a:off x="837720" y="4519080"/>
            <a:ext cx="1448640" cy="662760"/>
          </a:xfrm>
          <a:prstGeom prst="straightConnector1">
            <a:avLst/>
          </a:prstGeom>
          <a:ln w="28440">
            <a:solidFill>
              <a:srgbClr val="dddddd"/>
            </a:solidFill>
            <a:miter/>
          </a:ln>
        </p:spPr>
      </p:cxnSp>
      <p:cxnSp>
        <p:nvCxnSpPr>
          <p:cNvPr id="344" name=""/>
          <p:cNvCxnSpPr>
            <a:stCxn id="338" idx="2"/>
            <a:endCxn id="341" idx="0"/>
          </p:cNvCxnSpPr>
          <p:nvPr/>
        </p:nvCxnSpPr>
        <p:spPr>
          <a:xfrm>
            <a:off x="2285640" y="4519080"/>
            <a:ext cx="1080" cy="662760"/>
          </a:xfrm>
          <a:prstGeom prst="straightConnector1">
            <a:avLst/>
          </a:prstGeom>
          <a:ln w="28440">
            <a:solidFill>
              <a:srgbClr val="dddddd"/>
            </a:solidFill>
            <a:miter/>
          </a:ln>
        </p:spPr>
      </p:cxnSp>
      <p:cxnSp>
        <p:nvCxnSpPr>
          <p:cNvPr id="345" name=""/>
          <p:cNvCxnSpPr>
            <a:stCxn id="338" idx="2"/>
            <a:endCxn id="342" idx="0"/>
          </p:cNvCxnSpPr>
          <p:nvPr/>
        </p:nvCxnSpPr>
        <p:spPr>
          <a:xfrm>
            <a:off x="2286000" y="4519080"/>
            <a:ext cx="1448640" cy="662760"/>
          </a:xfrm>
          <a:prstGeom prst="straightConnector1">
            <a:avLst/>
          </a:prstGeom>
          <a:ln w="28440">
            <a:solidFill>
              <a:srgbClr val="dddddd"/>
            </a:solidFill>
            <a:miter/>
          </a:ln>
        </p:spPr>
      </p:cxnSp>
      <p:cxnSp>
        <p:nvCxnSpPr>
          <p:cNvPr id="346" name=""/>
          <p:cNvCxnSpPr>
            <a:stCxn id="339" idx="2"/>
            <a:endCxn id="347" idx="0"/>
          </p:cNvCxnSpPr>
          <p:nvPr/>
        </p:nvCxnSpPr>
        <p:spPr>
          <a:xfrm>
            <a:off x="6857640" y="4533480"/>
            <a:ext cx="1080" cy="648360"/>
          </a:xfrm>
          <a:prstGeom prst="straightConnector1">
            <a:avLst/>
          </a:prstGeom>
          <a:ln w="28440">
            <a:solidFill>
              <a:srgbClr val="008080"/>
            </a:solidFill>
            <a:miter/>
          </a:ln>
        </p:spPr>
      </p:cxnSp>
      <p:cxnSp>
        <p:nvCxnSpPr>
          <p:cNvPr id="348" name=""/>
          <p:cNvCxnSpPr>
            <a:stCxn id="339" idx="2"/>
            <a:endCxn id="349" idx="0"/>
          </p:cNvCxnSpPr>
          <p:nvPr/>
        </p:nvCxnSpPr>
        <p:spPr>
          <a:xfrm flipH="1">
            <a:off x="5333400" y="4533480"/>
            <a:ext cx="1524600" cy="648360"/>
          </a:xfrm>
          <a:prstGeom prst="straightConnector1">
            <a:avLst/>
          </a:prstGeom>
          <a:ln w="28440">
            <a:solidFill>
              <a:srgbClr val="008080"/>
            </a:solidFill>
            <a:miter/>
          </a:ln>
        </p:spPr>
      </p:cxnSp>
      <p:cxnSp>
        <p:nvCxnSpPr>
          <p:cNvPr id="350" name=""/>
          <p:cNvCxnSpPr>
            <a:stCxn id="339" idx="2"/>
            <a:endCxn id="351" idx="0"/>
          </p:cNvCxnSpPr>
          <p:nvPr/>
        </p:nvCxnSpPr>
        <p:spPr>
          <a:xfrm>
            <a:off x="6857640" y="4533480"/>
            <a:ext cx="1524600" cy="648360"/>
          </a:xfrm>
          <a:prstGeom prst="straightConnector1">
            <a:avLst/>
          </a:prstGeom>
          <a:ln w="28440">
            <a:solidFill>
              <a:srgbClr val="008080"/>
            </a:solidFill>
            <a:miter/>
          </a:ln>
        </p:spPr>
      </p:cxnSp>
      <p:sp>
        <p:nvSpPr>
          <p:cNvPr id="352" name=""/>
          <p:cNvSpPr/>
          <p:nvPr/>
        </p:nvSpPr>
        <p:spPr>
          <a:xfrm>
            <a:off x="3301920" y="3024360"/>
            <a:ext cx="2514600" cy="480960"/>
          </a:xfrm>
          <a:prstGeom prst="rect">
            <a:avLst/>
          </a:prstGeom>
          <a:solidFill>
            <a:srgbClr val="eaeaea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c0c0"/>
                </a:solidFill>
                <a:latin typeface="Arial"/>
                <a:ea typeface="굴림"/>
              </a:rPr>
              <a:t>Tene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3" name=""/>
          <p:cNvCxnSpPr>
            <a:stCxn id="352" idx="2"/>
            <a:endCxn id="338" idx="0"/>
          </p:cNvCxnSpPr>
          <p:nvPr/>
        </p:nvCxnSpPr>
        <p:spPr>
          <a:xfrm flipH="1">
            <a:off x="2285280" y="3504960"/>
            <a:ext cx="2274120" cy="533880"/>
          </a:xfrm>
          <a:prstGeom prst="straightConnector1">
            <a:avLst/>
          </a:prstGeom>
          <a:ln w="28440">
            <a:solidFill>
              <a:srgbClr val="dddddd"/>
            </a:solidFill>
            <a:miter/>
          </a:ln>
        </p:spPr>
      </p:cxnSp>
      <p:cxnSp>
        <p:nvCxnSpPr>
          <p:cNvPr id="354" name=""/>
          <p:cNvCxnSpPr>
            <a:stCxn id="352" idx="2"/>
            <a:endCxn id="339" idx="0"/>
          </p:cNvCxnSpPr>
          <p:nvPr/>
        </p:nvCxnSpPr>
        <p:spPr>
          <a:xfrm>
            <a:off x="4559040" y="3505320"/>
            <a:ext cx="2299320" cy="519840"/>
          </a:xfrm>
          <a:prstGeom prst="straightConnector1">
            <a:avLst/>
          </a:prstGeom>
          <a:ln w="28440">
            <a:solidFill>
              <a:srgbClr val="dddddd"/>
            </a:solidFill>
            <a:miter/>
          </a:ln>
        </p:spPr>
      </p:cxnSp>
      <p:sp>
        <p:nvSpPr>
          <p:cNvPr id="355" name=""/>
          <p:cNvSpPr/>
          <p:nvPr/>
        </p:nvSpPr>
        <p:spPr>
          <a:xfrm>
            <a:off x="457200" y="1523880"/>
            <a:ext cx="82296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굴림"/>
              </a:rPr>
              <a:t>Go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Scalability and robust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Generality: Should support diverse application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7696080" y="5181480"/>
            <a:ext cx="13716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Reli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Trans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4648320" y="5181480"/>
            <a:ext cx="13716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 anchorCtr="1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Rou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095880" y="5181480"/>
            <a:ext cx="152424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Task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Dissemin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576A3-0E6D-4541-9D3B-5DA190997E7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Times New Roman"/>
                <a:ea typeface="굴림"/>
              </a:rPr>
              <a:t>Task Dissemination</a:t>
            </a: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57200" y="152388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굴림"/>
              </a:rPr>
              <a:t>Reliably flood task from any master to all mo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Uses the master tier for dissem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Per-active-master cache with LRU replacement and a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690560" y="3048120"/>
            <a:ext cx="5730840" cy="3200400"/>
          </a:xfrm>
          <a:prstGeom prst="rect">
            <a:avLst/>
          </a:prstGeom>
          <a:ln w="0">
            <a:noFill/>
          </a:ln>
        </p:spPr>
      </p:pic>
      <p:grpSp>
        <p:nvGrpSpPr>
          <p:cNvPr id="359" name=""/>
          <p:cNvGrpSpPr/>
          <p:nvPr/>
        </p:nvGrpSpPr>
        <p:grpSpPr>
          <a:xfrm>
            <a:off x="3581280" y="3835440"/>
            <a:ext cx="1147680" cy="1144440"/>
            <a:chOff x="3581280" y="3835440"/>
            <a:chExt cx="1147680" cy="1144440"/>
          </a:xfrm>
        </p:grpSpPr>
        <p:sp>
          <p:nvSpPr>
            <p:cNvPr id="360" name=""/>
            <p:cNvSpPr/>
            <p:nvPr/>
          </p:nvSpPr>
          <p:spPr>
            <a:xfrm>
              <a:off x="4348080" y="4257720"/>
              <a:ext cx="380880" cy="30456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5960 h 304560"/>
                <a:gd name="textAreaBottom" fmla="*/ 22860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 rot="3600000">
              <a:off x="4156920" y="458604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 rot="7200000">
              <a:off x="3776040" y="458568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 rot="10800000">
              <a:off x="3581280" y="4257720"/>
              <a:ext cx="380880" cy="30456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5960 h 304560"/>
                <a:gd name="textAreaBottom" fmla="*/ 22860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 rot="18000000">
              <a:off x="4157280" y="392436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 rot="14400000">
              <a:off x="3776400" y="392400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"/>
          <p:cNvGrpSpPr/>
          <p:nvPr/>
        </p:nvGrpSpPr>
        <p:grpSpPr>
          <a:xfrm>
            <a:off x="4800600" y="3454560"/>
            <a:ext cx="1147680" cy="1144440"/>
            <a:chOff x="4800600" y="3454560"/>
            <a:chExt cx="1147680" cy="1144440"/>
          </a:xfrm>
        </p:grpSpPr>
        <p:sp>
          <p:nvSpPr>
            <p:cNvPr id="367" name=""/>
            <p:cNvSpPr/>
            <p:nvPr/>
          </p:nvSpPr>
          <p:spPr>
            <a:xfrm>
              <a:off x="5567400" y="3876840"/>
              <a:ext cx="380880" cy="30456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5960 h 304560"/>
                <a:gd name="textAreaBottom" fmla="*/ 22860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 rot="3600000">
              <a:off x="5376240" y="420516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 rot="7200000">
              <a:off x="4995360" y="420480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 rot="10800000">
              <a:off x="4800600" y="3876840"/>
              <a:ext cx="380880" cy="30456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5960 h 304560"/>
                <a:gd name="textAreaBottom" fmla="*/ 22860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 rot="18000000">
              <a:off x="5376600" y="354348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 rot="14400000">
              <a:off x="4995720" y="354312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5257800" y="4815000"/>
            <a:ext cx="1147680" cy="1144440"/>
            <a:chOff x="5257800" y="4815000"/>
            <a:chExt cx="1147680" cy="1144440"/>
          </a:xfrm>
        </p:grpSpPr>
        <p:sp>
          <p:nvSpPr>
            <p:cNvPr id="374" name=""/>
            <p:cNvSpPr/>
            <p:nvPr/>
          </p:nvSpPr>
          <p:spPr>
            <a:xfrm>
              <a:off x="6024600" y="5237280"/>
              <a:ext cx="380880" cy="30456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5960 h 304560"/>
                <a:gd name="textAreaBottom" fmla="*/ 22860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 rot="3600000">
              <a:off x="5833440" y="556560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 rot="7200000">
              <a:off x="5452560" y="556524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 rot="10800000">
              <a:off x="5257800" y="5237280"/>
              <a:ext cx="380880" cy="30456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5960 h 304560"/>
                <a:gd name="textAreaBottom" fmla="*/ 22860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 rot="18000000">
              <a:off x="5833800" y="490392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 rot="14400000">
              <a:off x="5452920" y="490356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0" name=""/>
          <p:cNvGrpSpPr/>
          <p:nvPr/>
        </p:nvGrpSpPr>
        <p:grpSpPr>
          <a:xfrm>
            <a:off x="5715000" y="4129200"/>
            <a:ext cx="1147680" cy="1144440"/>
            <a:chOff x="5715000" y="4129200"/>
            <a:chExt cx="1147680" cy="1144440"/>
          </a:xfrm>
        </p:grpSpPr>
        <p:sp>
          <p:nvSpPr>
            <p:cNvPr id="381" name=""/>
            <p:cNvSpPr/>
            <p:nvPr/>
          </p:nvSpPr>
          <p:spPr>
            <a:xfrm>
              <a:off x="6481800" y="4551480"/>
              <a:ext cx="380880" cy="30456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5960 h 304560"/>
                <a:gd name="textAreaBottom" fmla="*/ 22860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 rot="3600000">
              <a:off x="6290640" y="487980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 rot="7200000">
              <a:off x="5909760" y="487944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 rot="10800000">
              <a:off x="5715000" y="4551480"/>
              <a:ext cx="380880" cy="30456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5960 h 304560"/>
                <a:gd name="textAreaBottom" fmla="*/ 22860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8000000">
              <a:off x="6291000" y="421812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 rot="14400000">
              <a:off x="5910120" y="421776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7" name=""/>
          <p:cNvGrpSpPr/>
          <p:nvPr/>
        </p:nvGrpSpPr>
        <p:grpSpPr>
          <a:xfrm>
            <a:off x="4267080" y="3959280"/>
            <a:ext cx="1147680" cy="1144440"/>
            <a:chOff x="4267080" y="3959280"/>
            <a:chExt cx="1147680" cy="1144440"/>
          </a:xfrm>
        </p:grpSpPr>
        <p:sp>
          <p:nvSpPr>
            <p:cNvPr id="388" name=""/>
            <p:cNvSpPr/>
            <p:nvPr/>
          </p:nvSpPr>
          <p:spPr>
            <a:xfrm>
              <a:off x="5033880" y="4381560"/>
              <a:ext cx="380880" cy="30456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5960 h 304560"/>
                <a:gd name="textAreaBottom" fmla="*/ 22860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 rot="3600000">
              <a:off x="4842720" y="470988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 rot="7200000">
              <a:off x="4461840" y="470952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0800000">
              <a:off x="4267080" y="4381560"/>
              <a:ext cx="380880" cy="30456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5960 h 304560"/>
                <a:gd name="textAreaBottom" fmla="*/ 22860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 rot="18000000">
              <a:off x="4843080" y="404820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 rot="14400000">
              <a:off x="4462200" y="404784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4" name=""/>
          <p:cNvGrpSpPr/>
          <p:nvPr/>
        </p:nvGrpSpPr>
        <p:grpSpPr>
          <a:xfrm>
            <a:off x="3500280" y="4902120"/>
            <a:ext cx="1147680" cy="1144440"/>
            <a:chOff x="3500280" y="4902120"/>
            <a:chExt cx="1147680" cy="1144440"/>
          </a:xfrm>
        </p:grpSpPr>
        <p:sp>
          <p:nvSpPr>
            <p:cNvPr id="395" name=""/>
            <p:cNvSpPr/>
            <p:nvPr/>
          </p:nvSpPr>
          <p:spPr>
            <a:xfrm>
              <a:off x="4267080" y="5324400"/>
              <a:ext cx="380880" cy="30456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5960 h 304560"/>
                <a:gd name="textAreaBottom" fmla="*/ 22860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 rot="3600000">
              <a:off x="4075920" y="565272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 rot="7200000">
              <a:off x="3695040" y="565236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 rot="10800000">
              <a:off x="3500280" y="5324400"/>
              <a:ext cx="380880" cy="30456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5960 h 304560"/>
                <a:gd name="textAreaBottom" fmla="*/ 22860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 rot="18000000">
              <a:off x="4076280" y="499104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 rot="14400000">
              <a:off x="3695400" y="499068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1" name=""/>
          <p:cNvGrpSpPr/>
          <p:nvPr/>
        </p:nvGrpSpPr>
        <p:grpSpPr>
          <a:xfrm>
            <a:off x="5867280" y="4164120"/>
            <a:ext cx="1147680" cy="1144440"/>
            <a:chOff x="5867280" y="4164120"/>
            <a:chExt cx="1147680" cy="1144440"/>
          </a:xfrm>
        </p:grpSpPr>
        <p:sp>
          <p:nvSpPr>
            <p:cNvPr id="402" name=""/>
            <p:cNvSpPr/>
            <p:nvPr/>
          </p:nvSpPr>
          <p:spPr>
            <a:xfrm>
              <a:off x="6634080" y="4586400"/>
              <a:ext cx="380880" cy="30456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5960 h 304560"/>
                <a:gd name="textAreaBottom" fmla="*/ 22860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 rot="3600000">
              <a:off x="6442920" y="491472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 rot="7200000">
              <a:off x="6062040" y="491436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 rot="10800000">
              <a:off x="5867280" y="4586400"/>
              <a:ext cx="380880" cy="30456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5960 h 304560"/>
                <a:gd name="textAreaBottom" fmla="*/ 22860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 rot="18000000">
              <a:off x="6443280" y="425304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 rot="14400000">
              <a:off x="6062400" y="425268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8" name=""/>
          <p:cNvGrpSpPr/>
          <p:nvPr/>
        </p:nvGrpSpPr>
        <p:grpSpPr>
          <a:xfrm>
            <a:off x="4876920" y="3554280"/>
            <a:ext cx="1147680" cy="1144440"/>
            <a:chOff x="4876920" y="3554280"/>
            <a:chExt cx="1147680" cy="1144440"/>
          </a:xfrm>
        </p:grpSpPr>
        <p:sp>
          <p:nvSpPr>
            <p:cNvPr id="409" name=""/>
            <p:cNvSpPr/>
            <p:nvPr/>
          </p:nvSpPr>
          <p:spPr>
            <a:xfrm>
              <a:off x="5643720" y="3976560"/>
              <a:ext cx="380880" cy="30456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5960 h 304560"/>
                <a:gd name="textAreaBottom" fmla="*/ 22860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 rot="3600000">
              <a:off x="5452560" y="430488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 rot="7200000">
              <a:off x="5071680" y="430452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 rot="10800000">
              <a:off x="4876920" y="3976560"/>
              <a:ext cx="380880" cy="30456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5960 h 304560"/>
                <a:gd name="textAreaBottom" fmla="*/ 22860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 rot="18000000">
              <a:off x="5452920" y="364320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 rot="14400000">
              <a:off x="5072040" y="364284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5" name=""/>
          <p:cNvGrpSpPr/>
          <p:nvPr/>
        </p:nvGrpSpPr>
        <p:grpSpPr>
          <a:xfrm>
            <a:off x="2666880" y="4925880"/>
            <a:ext cx="1147680" cy="1144440"/>
            <a:chOff x="2666880" y="4925880"/>
            <a:chExt cx="1147680" cy="1144440"/>
          </a:xfrm>
        </p:grpSpPr>
        <p:sp>
          <p:nvSpPr>
            <p:cNvPr id="416" name=""/>
            <p:cNvSpPr/>
            <p:nvPr/>
          </p:nvSpPr>
          <p:spPr>
            <a:xfrm>
              <a:off x="3433680" y="5348160"/>
              <a:ext cx="380880" cy="30456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5960 h 304560"/>
                <a:gd name="textAreaBottom" fmla="*/ 22860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 rot="3600000">
              <a:off x="3242520" y="567648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 rot="7200000">
              <a:off x="2861640" y="567612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 rot="10800000">
              <a:off x="2666880" y="5348160"/>
              <a:ext cx="380880" cy="30456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5960 h 304560"/>
                <a:gd name="textAreaBottom" fmla="*/ 22860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 rot="18000000">
              <a:off x="3242880" y="501480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 rot="14400000">
              <a:off x="2862000" y="501444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2" name=""/>
          <p:cNvGrpSpPr/>
          <p:nvPr/>
        </p:nvGrpSpPr>
        <p:grpSpPr>
          <a:xfrm>
            <a:off x="2057400" y="4240080"/>
            <a:ext cx="1147680" cy="1144440"/>
            <a:chOff x="2057400" y="4240080"/>
            <a:chExt cx="1147680" cy="1144440"/>
          </a:xfrm>
        </p:grpSpPr>
        <p:sp>
          <p:nvSpPr>
            <p:cNvPr id="423" name=""/>
            <p:cNvSpPr/>
            <p:nvPr/>
          </p:nvSpPr>
          <p:spPr>
            <a:xfrm>
              <a:off x="2824200" y="4662360"/>
              <a:ext cx="380880" cy="30456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5960 h 304560"/>
                <a:gd name="textAreaBottom" fmla="*/ 22860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 rot="3600000">
              <a:off x="2633040" y="499068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 rot="7200000">
              <a:off x="2252160" y="499032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 rot="10800000">
              <a:off x="2057400" y="4662360"/>
              <a:ext cx="380880" cy="30456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5960 h 304560"/>
                <a:gd name="textAreaBottom" fmla="*/ 22860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 rot="18000000">
              <a:off x="2633400" y="432900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 rot="14400000">
              <a:off x="2252520" y="432864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9" name=""/>
          <p:cNvGrpSpPr/>
          <p:nvPr/>
        </p:nvGrpSpPr>
        <p:grpSpPr>
          <a:xfrm>
            <a:off x="3124080" y="3706920"/>
            <a:ext cx="1147680" cy="1144440"/>
            <a:chOff x="3124080" y="3706920"/>
            <a:chExt cx="1147680" cy="1144440"/>
          </a:xfrm>
        </p:grpSpPr>
        <p:sp>
          <p:nvSpPr>
            <p:cNvPr id="430" name=""/>
            <p:cNvSpPr/>
            <p:nvPr/>
          </p:nvSpPr>
          <p:spPr>
            <a:xfrm>
              <a:off x="3890880" y="4129200"/>
              <a:ext cx="380880" cy="30456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5960 h 304560"/>
                <a:gd name="textAreaBottom" fmla="*/ 22860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 rot="3600000">
              <a:off x="3699720" y="445752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 rot="7200000">
              <a:off x="3318840" y="445716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 rot="10800000">
              <a:off x="3124080" y="4129200"/>
              <a:ext cx="380880" cy="30456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5960 h 304560"/>
                <a:gd name="textAreaBottom" fmla="*/ 22860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 rot="18000000">
              <a:off x="3700080" y="379584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 rot="14400000">
              <a:off x="3319200" y="379548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6" name=""/>
          <p:cNvGrpSpPr/>
          <p:nvPr/>
        </p:nvGrpSpPr>
        <p:grpSpPr>
          <a:xfrm>
            <a:off x="4414680" y="5283360"/>
            <a:ext cx="1147680" cy="1144440"/>
            <a:chOff x="4414680" y="5283360"/>
            <a:chExt cx="1147680" cy="1144440"/>
          </a:xfrm>
        </p:grpSpPr>
        <p:sp>
          <p:nvSpPr>
            <p:cNvPr id="437" name=""/>
            <p:cNvSpPr/>
            <p:nvPr/>
          </p:nvSpPr>
          <p:spPr>
            <a:xfrm>
              <a:off x="5181480" y="5705640"/>
              <a:ext cx="380880" cy="30456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5960 h 304560"/>
                <a:gd name="textAreaBottom" fmla="*/ 22860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 rot="3600000">
              <a:off x="4990320" y="603396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 rot="7200000">
              <a:off x="4609440" y="603360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 rot="10800000">
              <a:off x="4414680" y="5705640"/>
              <a:ext cx="380880" cy="30456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5960 h 304560"/>
                <a:gd name="textAreaBottom" fmla="*/ 22860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 rot="18000000">
              <a:off x="4990680" y="537228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 rot="14400000">
              <a:off x="4609800" y="537192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3" name=""/>
          <p:cNvGrpSpPr/>
          <p:nvPr/>
        </p:nvGrpSpPr>
        <p:grpSpPr>
          <a:xfrm>
            <a:off x="5105520" y="4925880"/>
            <a:ext cx="1147680" cy="1144440"/>
            <a:chOff x="5105520" y="4925880"/>
            <a:chExt cx="1147680" cy="1144440"/>
          </a:xfrm>
        </p:grpSpPr>
        <p:sp>
          <p:nvSpPr>
            <p:cNvPr id="444" name=""/>
            <p:cNvSpPr/>
            <p:nvPr/>
          </p:nvSpPr>
          <p:spPr>
            <a:xfrm>
              <a:off x="5872320" y="5348160"/>
              <a:ext cx="380880" cy="30456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5960 h 304560"/>
                <a:gd name="textAreaBottom" fmla="*/ 22860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 rot="3600000">
              <a:off x="5681160" y="567648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 rot="7200000">
              <a:off x="5300280" y="567612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 rot="10800000">
              <a:off x="5105520" y="5348160"/>
              <a:ext cx="380880" cy="30456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5960 h 304560"/>
                <a:gd name="textAreaBottom" fmla="*/ 22860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 rot="18000000">
              <a:off x="5681520" y="501480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 rot="14400000">
              <a:off x="5300640" y="501444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0" name=""/>
          <p:cNvGrpSpPr/>
          <p:nvPr/>
        </p:nvGrpSpPr>
        <p:grpSpPr>
          <a:xfrm>
            <a:off x="2585880" y="4890960"/>
            <a:ext cx="1147680" cy="1144440"/>
            <a:chOff x="2585880" y="4890960"/>
            <a:chExt cx="1147680" cy="1144440"/>
          </a:xfrm>
        </p:grpSpPr>
        <p:sp>
          <p:nvSpPr>
            <p:cNvPr id="451" name=""/>
            <p:cNvSpPr/>
            <p:nvPr/>
          </p:nvSpPr>
          <p:spPr>
            <a:xfrm>
              <a:off x="3352680" y="5313240"/>
              <a:ext cx="380880" cy="30456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5960 h 304560"/>
                <a:gd name="textAreaBottom" fmla="*/ 22860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 rot="3600000">
              <a:off x="3161520" y="564156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 rot="7200000">
              <a:off x="2780640" y="564120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 rot="10800000">
              <a:off x="2585880" y="5313240"/>
              <a:ext cx="380880" cy="30456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5960 h 304560"/>
                <a:gd name="textAreaBottom" fmla="*/ 22860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 rot="18000000">
              <a:off x="3161880" y="497988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 rot="14400000">
              <a:off x="2781000" y="497952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7" name=""/>
          <p:cNvGrpSpPr/>
          <p:nvPr/>
        </p:nvGrpSpPr>
        <p:grpSpPr>
          <a:xfrm>
            <a:off x="2057400" y="4129200"/>
            <a:ext cx="1147680" cy="1144440"/>
            <a:chOff x="2057400" y="4129200"/>
            <a:chExt cx="1147680" cy="1144440"/>
          </a:xfrm>
        </p:grpSpPr>
        <p:sp>
          <p:nvSpPr>
            <p:cNvPr id="458" name=""/>
            <p:cNvSpPr/>
            <p:nvPr/>
          </p:nvSpPr>
          <p:spPr>
            <a:xfrm>
              <a:off x="2824200" y="4551480"/>
              <a:ext cx="380880" cy="30456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5960 h 304560"/>
                <a:gd name="textAreaBottom" fmla="*/ 22860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3600000">
              <a:off x="2633040" y="487980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 rot="7200000">
              <a:off x="2252160" y="487944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0800000">
              <a:off x="2057400" y="4551480"/>
              <a:ext cx="380880" cy="30456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5960 h 304560"/>
                <a:gd name="textAreaBottom" fmla="*/ 22860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 rot="18000000">
              <a:off x="2633400" y="421812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4400000">
              <a:off x="2252520" y="421776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4" name=""/>
          <p:cNvGrpSpPr/>
          <p:nvPr/>
        </p:nvGrpSpPr>
        <p:grpSpPr>
          <a:xfrm>
            <a:off x="2971800" y="3595680"/>
            <a:ext cx="1147680" cy="1144440"/>
            <a:chOff x="2971800" y="3595680"/>
            <a:chExt cx="1147680" cy="1144440"/>
          </a:xfrm>
        </p:grpSpPr>
        <p:sp>
          <p:nvSpPr>
            <p:cNvPr id="465" name=""/>
            <p:cNvSpPr/>
            <p:nvPr/>
          </p:nvSpPr>
          <p:spPr>
            <a:xfrm>
              <a:off x="3738600" y="4017960"/>
              <a:ext cx="380880" cy="30456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5960 h 304560"/>
                <a:gd name="textAreaBottom" fmla="*/ 22860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 rot="3600000">
              <a:off x="3547440" y="434628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7200000">
              <a:off x="3166560" y="434592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 rot="10800000">
              <a:off x="2971800" y="4017960"/>
              <a:ext cx="380880" cy="30456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5960 h 304560"/>
                <a:gd name="textAreaBottom" fmla="*/ 22860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8000000">
              <a:off x="3547800" y="368460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 rot="14400000">
              <a:off x="3166920" y="368424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1" name=""/>
          <p:cNvGrpSpPr/>
          <p:nvPr/>
        </p:nvGrpSpPr>
        <p:grpSpPr>
          <a:xfrm>
            <a:off x="3657600" y="4890960"/>
            <a:ext cx="1147680" cy="1144440"/>
            <a:chOff x="3657600" y="4890960"/>
            <a:chExt cx="1147680" cy="1144440"/>
          </a:xfrm>
        </p:grpSpPr>
        <p:sp>
          <p:nvSpPr>
            <p:cNvPr id="472" name=""/>
            <p:cNvSpPr/>
            <p:nvPr/>
          </p:nvSpPr>
          <p:spPr>
            <a:xfrm>
              <a:off x="4424400" y="5313240"/>
              <a:ext cx="380880" cy="30456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5960 h 304560"/>
                <a:gd name="textAreaBottom" fmla="*/ 22860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 rot="3600000">
              <a:off x="4233240" y="564156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 rot="7200000">
              <a:off x="3852360" y="564120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 rot="10800000">
              <a:off x="3657600" y="5313240"/>
              <a:ext cx="380880" cy="30456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5960 h 304560"/>
                <a:gd name="textAreaBottom" fmla="*/ 22860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 rot="18000000">
              <a:off x="4233600" y="497988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 rot="14400000">
              <a:off x="3852720" y="497952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8" name=""/>
          <p:cNvGrpSpPr/>
          <p:nvPr/>
        </p:nvGrpSpPr>
        <p:grpSpPr>
          <a:xfrm>
            <a:off x="4419720" y="5154480"/>
            <a:ext cx="1147680" cy="1144440"/>
            <a:chOff x="4419720" y="5154480"/>
            <a:chExt cx="1147680" cy="1144440"/>
          </a:xfrm>
        </p:grpSpPr>
        <p:sp>
          <p:nvSpPr>
            <p:cNvPr id="479" name=""/>
            <p:cNvSpPr/>
            <p:nvPr/>
          </p:nvSpPr>
          <p:spPr>
            <a:xfrm>
              <a:off x="5186520" y="5576760"/>
              <a:ext cx="380880" cy="30456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5960 h 304560"/>
                <a:gd name="textAreaBottom" fmla="*/ 22860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 rot="3600000">
              <a:off x="4995360" y="590508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 rot="7200000">
              <a:off x="4614480" y="590472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 rot="10800000">
              <a:off x="4419720" y="5576760"/>
              <a:ext cx="380880" cy="30456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5960 h 304560"/>
                <a:gd name="textAreaBottom" fmla="*/ 22860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 rot="18000000">
              <a:off x="4995720" y="524340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 rot="14400000">
              <a:off x="4614840" y="524304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5" name=""/>
          <p:cNvSpPr/>
          <p:nvPr/>
        </p:nvSpPr>
        <p:spPr>
          <a:xfrm rot="1376400">
            <a:off x="2437920" y="3646440"/>
            <a:ext cx="685800" cy="380880"/>
          </a:xfrm>
          <a:custGeom>
            <a:avLst/>
            <a:gdLst>
              <a:gd name="textAreaLeft" fmla="*/ 85680 w 685800"/>
              <a:gd name="textAreaRight" fmla="*/ 600120 w 6858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rot="9985200">
            <a:off x="6019560" y="3657600"/>
            <a:ext cx="685800" cy="380880"/>
          </a:xfrm>
          <a:custGeom>
            <a:avLst/>
            <a:gdLst>
              <a:gd name="textAreaLeft" fmla="*/ 85680 w 685800"/>
              <a:gd name="textAreaRight" fmla="*/ 600120 w 6858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217EC-3767-4F0E-8570-A6A4AF439FF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500"/>
                            </p:stCondLst>
                            <p:childTnLst>
                              <p:par>
                                <p:cTn id="48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1000"/>
                            </p:stCondLst>
                            <p:childTnLst>
                              <p:par>
                                <p:cTn id="50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7" name="" descr=""/>
          <p:cNvPicPr/>
          <p:nvPr/>
        </p:nvPicPr>
        <p:blipFill>
          <a:blip r:embed="rId1"/>
          <a:stretch/>
        </p:blipFill>
        <p:spPr>
          <a:xfrm>
            <a:off x="7405560" y="3427560"/>
            <a:ext cx="1357560" cy="1071360"/>
          </a:xfrm>
          <a:prstGeom prst="rect">
            <a:avLst/>
          </a:prstGeom>
          <a:ln w="0">
            <a:noFill/>
          </a:ln>
        </p:spPr>
      </p:pic>
      <p:pic>
        <p:nvPicPr>
          <p:cNvPr id="488" name="" descr=""/>
          <p:cNvPicPr/>
          <p:nvPr/>
        </p:nvPicPr>
        <p:blipFill>
          <a:blip r:embed="rId2"/>
          <a:stretch/>
        </p:blipFill>
        <p:spPr>
          <a:xfrm>
            <a:off x="6345360" y="4319640"/>
            <a:ext cx="1517400" cy="1217520"/>
          </a:xfrm>
          <a:prstGeom prst="rect">
            <a:avLst/>
          </a:prstGeom>
          <a:ln w="0">
            <a:noFill/>
          </a:ln>
        </p:spPr>
      </p:pic>
      <p:pic>
        <p:nvPicPr>
          <p:cNvPr id="489" name="" descr=""/>
          <p:cNvPicPr/>
          <p:nvPr/>
        </p:nvPicPr>
        <p:blipFill>
          <a:blip r:embed="rId3"/>
          <a:stretch/>
        </p:blipFill>
        <p:spPr>
          <a:xfrm>
            <a:off x="5000760" y="5027760"/>
            <a:ext cx="1719000" cy="1525320"/>
          </a:xfrm>
          <a:prstGeom prst="rect">
            <a:avLst/>
          </a:prstGeom>
          <a:ln w="0">
            <a:noFill/>
          </a:ln>
        </p:spPr>
      </p:pic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Times New Roman"/>
                <a:ea typeface="굴림"/>
              </a:rPr>
              <a:t>Reliable Transport</a:t>
            </a: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Delivering task responses from motes to mas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5000"/>
              </a:lnSpc>
              <a:spcBef>
                <a:spcPts val="550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굴림"/>
              </a:rPr>
              <a:t>Works transparently across the two ti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105000"/>
              </a:lnSpc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Three different types of transport mechanism for different application requir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5000"/>
              </a:lnSpc>
              <a:spcBef>
                <a:spcPts val="550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50021"/>
                </a:solidFill>
                <a:latin typeface="Times New Roman"/>
                <a:ea typeface="굴림"/>
              </a:rPr>
              <a:t>Best-effor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굴림"/>
              </a:rPr>
              <a:t> delivery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굴림"/>
              </a:rPr>
              <a:t> (least overhead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5000"/>
              </a:lnSpc>
              <a:spcBef>
                <a:spcPts val="550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굴림"/>
              </a:rPr>
              <a:t>End-to-end </a:t>
            </a:r>
            <a:r>
              <a:rPr b="1" lang="en-US" sz="2200" spc="-1" strike="noStrike">
                <a:solidFill>
                  <a:srgbClr val="a50021"/>
                </a:solidFill>
                <a:latin typeface="Times New Roman"/>
                <a:ea typeface="굴림"/>
              </a:rPr>
              <a:t>reliable packe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굴림"/>
              </a:rPr>
              <a:t> transpor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5000"/>
              </a:lnSpc>
              <a:spcBef>
                <a:spcPts val="550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굴림"/>
              </a:rPr>
              <a:t>End-to-end </a:t>
            </a:r>
            <a:r>
              <a:rPr b="1" lang="en-US" sz="2200" spc="-1" strike="noStrike">
                <a:solidFill>
                  <a:srgbClr val="a50021"/>
                </a:solidFill>
                <a:latin typeface="Times New Roman"/>
                <a:ea typeface="굴림"/>
              </a:rPr>
              <a:t>reliable stream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굴림"/>
              </a:rPr>
              <a:t> transpor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04A93-8D2D-4412-9967-106BFAD0AFB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Times New Roman"/>
                <a:ea typeface="굴림"/>
              </a:rPr>
              <a:t>Putting it all together…</a:t>
            </a: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493" name="" descr=""/>
          <p:cNvPicPr/>
          <p:nvPr/>
        </p:nvPicPr>
        <p:blipFill>
          <a:blip r:embed="rId1"/>
          <a:stretch/>
        </p:blipFill>
        <p:spPr>
          <a:xfrm>
            <a:off x="380880" y="2066760"/>
            <a:ext cx="4159440" cy="3357720"/>
          </a:xfrm>
          <a:prstGeom prst="rect">
            <a:avLst/>
          </a:prstGeom>
          <a:ln w="0">
            <a:noFill/>
          </a:ln>
        </p:spPr>
      </p:pic>
      <p:pic>
        <p:nvPicPr>
          <p:cNvPr id="494" name="" descr=""/>
          <p:cNvPicPr/>
          <p:nvPr/>
        </p:nvPicPr>
        <p:blipFill>
          <a:blip r:embed="rId2"/>
          <a:stretch/>
        </p:blipFill>
        <p:spPr>
          <a:xfrm>
            <a:off x="4572000" y="2066760"/>
            <a:ext cx="4159080" cy="3357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EB4C7-A343-4981-964F-7C6FE5B2A92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" descr=""/>
          <p:cNvPicPr/>
          <p:nvPr/>
        </p:nvPicPr>
        <p:blipFill>
          <a:blip r:embed="rId1"/>
          <a:stretch/>
        </p:blipFill>
        <p:spPr>
          <a:xfrm>
            <a:off x="1433520" y="4452840"/>
            <a:ext cx="2111400" cy="2024280"/>
          </a:xfrm>
          <a:prstGeom prst="rect">
            <a:avLst/>
          </a:prstGeom>
          <a:ln w="0">
            <a:noFill/>
          </a:ln>
        </p:spPr>
      </p:pic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Times New Roman"/>
                <a:ea typeface="굴림"/>
              </a:rPr>
              <a:t>Application Case Study: PEG</a:t>
            </a: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Compare performance with an implementation that performs in-mote multi-node fu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Pursuit-Evasion G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Pursuers (robots) collectively determine the location of evaders, and try to corral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8" name="" descr=""/>
          <p:cNvPicPr/>
          <p:nvPr/>
        </p:nvPicPr>
        <p:blipFill>
          <a:blip r:embed="rId2"/>
          <a:stretch/>
        </p:blipFill>
        <p:spPr>
          <a:xfrm>
            <a:off x="4968720" y="1600200"/>
            <a:ext cx="3395880" cy="4525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30264-3E5B-40CD-BFD6-CDF8AC081FE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6700680" y="217440"/>
            <a:ext cx="2367000" cy="17766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Times New Roman"/>
                <a:ea typeface="굴림"/>
              </a:rPr>
              <a:t>The Problem</a:t>
            </a: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굴림"/>
              </a:rPr>
              <a:t>Sensor data fusion within the net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…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can result in energy-efficient implem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굴림"/>
              </a:rPr>
              <a:t>But implementing </a:t>
            </a:r>
            <a:r>
              <a:rPr b="0" i="1" lang="en-US" sz="2800" spc="-1" strike="noStrike">
                <a:solidFill>
                  <a:srgbClr val="cc0000"/>
                </a:solidFill>
                <a:latin typeface="Times New Roman"/>
                <a:ea typeface="굴림"/>
              </a:rPr>
              <a:t>collaborativ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굴림"/>
              </a:rPr>
              <a:t> fusion on the </a:t>
            </a:r>
            <a:r>
              <a:rPr b="0" i="1" lang="en-US" sz="2800" spc="-1" strike="noStrike">
                <a:solidFill>
                  <a:srgbClr val="cc0000"/>
                </a:solidFill>
                <a:latin typeface="Times New Roman"/>
                <a:ea typeface="굴림"/>
              </a:rPr>
              <a:t>mot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굴림"/>
              </a:rPr>
              <a:t> for each application separate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…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can result in fragile systems that are hard to program, debug, re-configure, and man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굴림"/>
              </a:rPr>
              <a:t>We learnt this the hard way, through many trial deploymen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EA406-D7B8-4793-A552-9A97DE39EC6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Times New Roman"/>
                <a:ea typeface="굴림"/>
              </a:rPr>
              <a:t>Mote-PEG vs. Tenet-PEG</a:t>
            </a: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500" name=""/>
          <p:cNvGrpSpPr/>
          <p:nvPr/>
        </p:nvGrpSpPr>
        <p:grpSpPr>
          <a:xfrm>
            <a:off x="942840" y="2057400"/>
            <a:ext cx="7232400" cy="3665160"/>
            <a:chOff x="942840" y="2057400"/>
            <a:chExt cx="7232400" cy="3665160"/>
          </a:xfrm>
        </p:grpSpPr>
        <p:sp>
          <p:nvSpPr>
            <p:cNvPr id="501" name=""/>
            <p:cNvSpPr/>
            <p:nvPr/>
          </p:nvSpPr>
          <p:spPr>
            <a:xfrm>
              <a:off x="4608720" y="2156400"/>
              <a:ext cx="228600" cy="206280"/>
            </a:xfrm>
            <a:prstGeom prst="ellipse">
              <a:avLst/>
            </a:prstGeom>
            <a:gradFill rotWithShape="0">
              <a:gsLst>
                <a:gs pos="0">
                  <a:srgbClr val="cce7e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942840" y="2057400"/>
              <a:ext cx="456120" cy="484560"/>
            </a:xfrm>
            <a:custGeom>
              <a:avLst/>
              <a:gdLst>
                <a:gd name="textAreaLeft" fmla="*/ 0 w 456120"/>
                <a:gd name="textAreaRight" fmla="*/ 456480 w 456120"/>
                <a:gd name="textAreaTop" fmla="*/ 0 h 484560"/>
                <a:gd name="textAreaBottom" fmla="*/ 484920 h 484560"/>
              </a:gdLst>
              <a:ahLst/>
              <a:rect l="textAreaLeft" t="textAreaTop" r="textAreaRight" b="textAreaBottom"/>
              <a:pathLst>
                <a:path w="21600" h="22946">
                  <a:moveTo>
                    <a:pt x="0" y="0"/>
                  </a:moveTo>
                  <a:arcTo wR="0" hR="0" stAng="16200000" swAng="-5400000"/>
                  <a:lnTo>
                    <a:pt x="0" y="22946"/>
                  </a:lnTo>
                  <a:arcTo wR="0" hR="0" stAng="10800000" swAng="-5400000"/>
                  <a:lnTo>
                    <a:pt x="21600" y="22946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1398960" y="2057400"/>
              <a:ext cx="381600" cy="484560"/>
            </a:xfrm>
            <a:custGeom>
              <a:avLst/>
              <a:gdLst>
                <a:gd name="textAreaLeft" fmla="*/ 0 w 381600"/>
                <a:gd name="textAreaRight" fmla="*/ 381960 w 381600"/>
                <a:gd name="textAreaTop" fmla="*/ 0 h 484560"/>
                <a:gd name="textAreaBottom" fmla="*/ 484920 h 484560"/>
              </a:gdLst>
              <a:ahLst/>
              <a:rect l="textAreaLeft" t="textAreaTop" r="textAreaRight" b="textAreaBottom"/>
              <a:pathLst>
                <a:path w="21600" h="27422">
                  <a:moveTo>
                    <a:pt x="0" y="0"/>
                  </a:moveTo>
                  <a:arcTo wR="0" hR="0" stAng="16200000" swAng="-5400000"/>
                  <a:lnTo>
                    <a:pt x="0" y="27422"/>
                  </a:lnTo>
                  <a:arcTo wR="0" hR="0" stAng="10800000" swAng="-5400000"/>
                  <a:lnTo>
                    <a:pt x="21600" y="27422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1780920" y="2057400"/>
              <a:ext cx="455760" cy="484560"/>
            </a:xfrm>
            <a:custGeom>
              <a:avLst/>
              <a:gdLst>
                <a:gd name="textAreaLeft" fmla="*/ 0 w 455760"/>
                <a:gd name="textAreaRight" fmla="*/ 456120 w 455760"/>
                <a:gd name="textAreaTop" fmla="*/ 0 h 484560"/>
                <a:gd name="textAreaBottom" fmla="*/ 484920 h 484560"/>
              </a:gdLst>
              <a:ahLst/>
              <a:rect l="textAreaLeft" t="textAreaTop" r="textAreaRight" b="textAreaBottom"/>
              <a:pathLst>
                <a:path w="21600" h="22964">
                  <a:moveTo>
                    <a:pt x="0" y="0"/>
                  </a:moveTo>
                  <a:arcTo wR="0" hR="0" stAng="16200000" swAng="-5400000"/>
                  <a:lnTo>
                    <a:pt x="0" y="22964"/>
                  </a:lnTo>
                  <a:arcTo wR="0" hR="0" stAng="10800000" swAng="-5400000"/>
                  <a:lnTo>
                    <a:pt x="21600" y="22964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2237040" y="2057400"/>
              <a:ext cx="379800" cy="484560"/>
            </a:xfrm>
            <a:custGeom>
              <a:avLst/>
              <a:gdLst>
                <a:gd name="textAreaLeft" fmla="*/ 0 w 379800"/>
                <a:gd name="textAreaRight" fmla="*/ 380160 w 379800"/>
                <a:gd name="textAreaTop" fmla="*/ 0 h 484560"/>
                <a:gd name="textAreaBottom" fmla="*/ 484920 h 484560"/>
              </a:gdLst>
              <a:ahLst/>
              <a:rect l="textAreaLeft" t="textAreaTop" r="textAreaRight" b="textAreaBottom"/>
              <a:pathLst>
                <a:path w="21600" h="27552">
                  <a:moveTo>
                    <a:pt x="0" y="0"/>
                  </a:moveTo>
                  <a:arcTo wR="0" hR="0" stAng="16200000" swAng="-5400000"/>
                  <a:lnTo>
                    <a:pt x="0" y="27552"/>
                  </a:lnTo>
                  <a:arcTo wR="0" hR="0" stAng="10800000" swAng="-5400000"/>
                  <a:lnTo>
                    <a:pt x="21600" y="27552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2616840" y="2057400"/>
              <a:ext cx="457920" cy="484560"/>
            </a:xfrm>
            <a:custGeom>
              <a:avLst/>
              <a:gdLst>
                <a:gd name="textAreaLeft" fmla="*/ 0 w 457920"/>
                <a:gd name="textAreaRight" fmla="*/ 458280 w 457920"/>
                <a:gd name="textAreaTop" fmla="*/ 0 h 484560"/>
                <a:gd name="textAreaBottom" fmla="*/ 484560 h 484560"/>
              </a:gdLst>
              <a:ahLst/>
              <a:rect l="textAreaLeft" t="textAreaTop" r="textAreaRight" b="textAreaBottom"/>
              <a:pathLst>
                <a:path w="21600" h="22856">
                  <a:moveTo>
                    <a:pt x="0" y="0"/>
                  </a:moveTo>
                  <a:arcTo wR="0" hR="0" stAng="16200000" swAng="-5400000"/>
                  <a:lnTo>
                    <a:pt x="0" y="22856"/>
                  </a:lnTo>
                  <a:arcTo wR="0" hR="0" stAng="10800000" swAng="-5400000"/>
                  <a:lnTo>
                    <a:pt x="21600" y="22856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3075120" y="2057400"/>
              <a:ext cx="379440" cy="484560"/>
            </a:xfrm>
            <a:custGeom>
              <a:avLst/>
              <a:gdLst>
                <a:gd name="textAreaLeft" fmla="*/ 0 w 379440"/>
                <a:gd name="textAreaRight" fmla="*/ 379800 w 379440"/>
                <a:gd name="textAreaTop" fmla="*/ 0 h 484560"/>
                <a:gd name="textAreaBottom" fmla="*/ 484560 h 484560"/>
              </a:gdLst>
              <a:ahLst/>
              <a:rect l="textAreaLeft" t="textAreaTop" r="textAreaRight" b="textAreaBottom"/>
              <a:pathLst>
                <a:path w="21600" h="27578">
                  <a:moveTo>
                    <a:pt x="0" y="0"/>
                  </a:moveTo>
                  <a:arcTo wR="0" hR="0" stAng="16200000" swAng="-5400000"/>
                  <a:lnTo>
                    <a:pt x="0" y="27578"/>
                  </a:lnTo>
                  <a:arcTo wR="0" hR="0" stAng="10800000" swAng="-5400000"/>
                  <a:lnTo>
                    <a:pt x="21600" y="2757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3454920" y="2057400"/>
              <a:ext cx="456120" cy="484560"/>
            </a:xfrm>
            <a:custGeom>
              <a:avLst/>
              <a:gdLst>
                <a:gd name="textAreaLeft" fmla="*/ 0 w 456120"/>
                <a:gd name="textAreaRight" fmla="*/ 456480 w 456120"/>
                <a:gd name="textAreaTop" fmla="*/ 0 h 484560"/>
                <a:gd name="textAreaBottom" fmla="*/ 484920 h 484560"/>
              </a:gdLst>
              <a:ahLst/>
              <a:rect l="textAreaLeft" t="textAreaTop" r="textAreaRight" b="textAreaBottom"/>
              <a:pathLst>
                <a:path w="21600" h="22946">
                  <a:moveTo>
                    <a:pt x="0" y="0"/>
                  </a:moveTo>
                  <a:arcTo wR="0" hR="0" stAng="16200000" swAng="-5400000"/>
                  <a:lnTo>
                    <a:pt x="0" y="22946"/>
                  </a:lnTo>
                  <a:arcTo wR="0" hR="0" stAng="10800000" swAng="-5400000"/>
                  <a:lnTo>
                    <a:pt x="21600" y="22946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3911040" y="2057400"/>
              <a:ext cx="381240" cy="484560"/>
            </a:xfrm>
            <a:custGeom>
              <a:avLst/>
              <a:gdLst>
                <a:gd name="textAreaLeft" fmla="*/ 0 w 381240"/>
                <a:gd name="textAreaRight" fmla="*/ 381600 w 381240"/>
                <a:gd name="textAreaTop" fmla="*/ 0 h 484560"/>
                <a:gd name="textAreaBottom" fmla="*/ 484920 h 484560"/>
              </a:gdLst>
              <a:ahLst/>
              <a:rect l="textAreaLeft" t="textAreaTop" r="textAreaRight" b="textAreaBottom"/>
              <a:pathLst>
                <a:path w="21600" h="27448">
                  <a:moveTo>
                    <a:pt x="0" y="0"/>
                  </a:moveTo>
                  <a:arcTo wR="0" hR="0" stAng="16200000" swAng="-5400000"/>
                  <a:lnTo>
                    <a:pt x="0" y="27448"/>
                  </a:lnTo>
                  <a:arcTo wR="0" hR="0" stAng="10800000" swAng="-5400000"/>
                  <a:lnTo>
                    <a:pt x="21600" y="2744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4292640" y="2057400"/>
              <a:ext cx="379800" cy="484560"/>
            </a:xfrm>
            <a:custGeom>
              <a:avLst/>
              <a:gdLst>
                <a:gd name="textAreaLeft" fmla="*/ 0 w 379800"/>
                <a:gd name="textAreaRight" fmla="*/ 380160 w 379800"/>
                <a:gd name="textAreaTop" fmla="*/ 0 h 484560"/>
                <a:gd name="textAreaBottom" fmla="*/ 484920 h 484560"/>
              </a:gdLst>
              <a:ahLst/>
              <a:rect l="textAreaLeft" t="textAreaTop" r="textAreaRight" b="textAreaBottom"/>
              <a:pathLst>
                <a:path w="21600" h="27552">
                  <a:moveTo>
                    <a:pt x="0" y="0"/>
                  </a:moveTo>
                  <a:arcTo wR="0" hR="0" stAng="16200000" swAng="-5400000"/>
                  <a:lnTo>
                    <a:pt x="0" y="27552"/>
                  </a:lnTo>
                  <a:arcTo wR="0" hR="0" stAng="10800000" swAng="-5400000"/>
                  <a:lnTo>
                    <a:pt x="21600" y="27552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1704600" y="2748600"/>
              <a:ext cx="912240" cy="1106280"/>
            </a:xfrm>
            <a:custGeom>
              <a:avLst/>
              <a:gdLst>
                <a:gd name="textAreaLeft" fmla="*/ 0 w 912240"/>
                <a:gd name="textAreaRight" fmla="*/ 912600 w 912240"/>
                <a:gd name="textAreaTop" fmla="*/ 0 h 1106280"/>
                <a:gd name="textAreaBottom" fmla="*/ 1106280 h 1106280"/>
              </a:gdLst>
              <a:ahLst/>
              <a:rect l="textAreaLeft" t="textAreaTop" r="textAreaRight" b="textAreaBottom"/>
              <a:pathLst>
                <a:path w="21600" h="26193">
                  <a:moveTo>
                    <a:pt x="0" y="0"/>
                  </a:moveTo>
                  <a:arcTo wR="0" hR="0" stAng="16200000" swAng="-5400000"/>
                  <a:lnTo>
                    <a:pt x="0" y="26193"/>
                  </a:lnTo>
                  <a:arcTo wR="0" hR="0" stAng="10800000" swAng="-5400000"/>
                  <a:lnTo>
                    <a:pt x="21600" y="26193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2616840" y="2748600"/>
              <a:ext cx="761400" cy="1106280"/>
            </a:xfrm>
            <a:custGeom>
              <a:avLst/>
              <a:gdLst>
                <a:gd name="textAreaLeft" fmla="*/ 0 w 761400"/>
                <a:gd name="textAreaRight" fmla="*/ 761760 w 761400"/>
                <a:gd name="textAreaTop" fmla="*/ 0 h 1106280"/>
                <a:gd name="textAreaBottom" fmla="*/ 1106640 h 1106280"/>
              </a:gdLst>
              <a:ahLst/>
              <a:rect l="textAreaLeft" t="textAreaTop" r="textAreaRight" b="textAreaBottom"/>
              <a:pathLst>
                <a:path w="21600" h="31379">
                  <a:moveTo>
                    <a:pt x="0" y="0"/>
                  </a:moveTo>
                  <a:arcTo wR="0" hR="0" stAng="16200000" swAng="-5400000"/>
                  <a:lnTo>
                    <a:pt x="0" y="31379"/>
                  </a:lnTo>
                  <a:arcTo wR="0" hR="0" stAng="10800000" swAng="-5400000"/>
                  <a:lnTo>
                    <a:pt x="21600" y="31379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780920" y="4062960"/>
              <a:ext cx="835920" cy="1659240"/>
            </a:xfrm>
            <a:custGeom>
              <a:avLst/>
              <a:gdLst>
                <a:gd name="textAreaLeft" fmla="*/ 0 w 835920"/>
                <a:gd name="textAreaRight" fmla="*/ 836280 w 835920"/>
                <a:gd name="textAreaTop" fmla="*/ 0 h 1659240"/>
                <a:gd name="textAreaBottom" fmla="*/ 1659600 h 1659240"/>
              </a:gdLst>
              <a:ahLst/>
              <a:rect l="textAreaLeft" t="textAreaTop" r="textAreaRight" b="textAreaBottom"/>
              <a:pathLst>
                <a:path w="21600" h="42865">
                  <a:moveTo>
                    <a:pt x="0" y="0"/>
                  </a:moveTo>
                  <a:arcTo wR="0" hR="0" stAng="16200000" swAng="-5400000"/>
                  <a:lnTo>
                    <a:pt x="0" y="42865"/>
                  </a:lnTo>
                  <a:arcTo wR="0" hR="0" stAng="10800000" swAng="-5400000"/>
                  <a:lnTo>
                    <a:pt x="21600" y="42865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616840" y="4062960"/>
              <a:ext cx="837720" cy="1659240"/>
            </a:xfrm>
            <a:custGeom>
              <a:avLst/>
              <a:gdLst>
                <a:gd name="textAreaLeft" fmla="*/ 0 w 837720"/>
                <a:gd name="textAreaRight" fmla="*/ 838080 w 837720"/>
                <a:gd name="textAreaTop" fmla="*/ 0 h 1659240"/>
                <a:gd name="textAreaBottom" fmla="*/ 1659600 h 1659240"/>
              </a:gdLst>
              <a:ahLst/>
              <a:rect l="textAreaLeft" t="textAreaTop" r="textAreaRight" b="textAreaBottom"/>
              <a:pathLst>
                <a:path w="21600" h="42773">
                  <a:moveTo>
                    <a:pt x="0" y="0"/>
                  </a:moveTo>
                  <a:arcTo wR="0" hR="0" stAng="16200000" swAng="-5400000"/>
                  <a:lnTo>
                    <a:pt x="0" y="42773"/>
                  </a:lnTo>
                  <a:arcTo wR="0" hR="0" stAng="10800000" swAng="-5400000"/>
                  <a:lnTo>
                    <a:pt x="21600" y="42773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454920" y="4062960"/>
              <a:ext cx="837720" cy="1659240"/>
            </a:xfrm>
            <a:custGeom>
              <a:avLst/>
              <a:gdLst>
                <a:gd name="textAreaLeft" fmla="*/ 0 w 837720"/>
                <a:gd name="textAreaRight" fmla="*/ 838080 w 837720"/>
                <a:gd name="textAreaTop" fmla="*/ 0 h 1659240"/>
                <a:gd name="textAreaBottom" fmla="*/ 1659600 h 1659240"/>
              </a:gdLst>
              <a:ahLst/>
              <a:rect l="textAreaLeft" t="textAreaTop" r="textAreaRight" b="textAreaBottom"/>
              <a:pathLst>
                <a:path w="21600" h="42773">
                  <a:moveTo>
                    <a:pt x="0" y="0"/>
                  </a:moveTo>
                  <a:arcTo wR="0" hR="0" stAng="16200000" swAng="-5400000"/>
                  <a:lnTo>
                    <a:pt x="0" y="42773"/>
                  </a:lnTo>
                  <a:arcTo wR="0" hR="0" stAng="10800000" swAng="-5400000"/>
                  <a:lnTo>
                    <a:pt x="21600" y="42773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4292640" y="4062960"/>
              <a:ext cx="838080" cy="1659240"/>
            </a:xfrm>
            <a:custGeom>
              <a:avLst/>
              <a:gdLst>
                <a:gd name="textAreaLeft" fmla="*/ 0 w 838080"/>
                <a:gd name="textAreaRight" fmla="*/ 838440 w 838080"/>
                <a:gd name="textAreaTop" fmla="*/ 0 h 1659240"/>
                <a:gd name="textAreaBottom" fmla="*/ 1659600 h 1659240"/>
              </a:gdLst>
              <a:ahLst/>
              <a:rect l="textAreaLeft" t="textAreaTop" r="textAreaRight" b="textAreaBottom"/>
              <a:pathLst>
                <a:path w="21600" h="42755">
                  <a:moveTo>
                    <a:pt x="0" y="0"/>
                  </a:moveTo>
                  <a:arcTo wR="0" hR="0" stAng="16200000" swAng="-5400000"/>
                  <a:lnTo>
                    <a:pt x="0" y="42755"/>
                  </a:lnTo>
                  <a:arcTo wR="0" hR="0" stAng="10800000" swAng="-5400000"/>
                  <a:lnTo>
                    <a:pt x="21600" y="42755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5131080" y="4062960"/>
              <a:ext cx="835920" cy="1659240"/>
            </a:xfrm>
            <a:custGeom>
              <a:avLst/>
              <a:gdLst>
                <a:gd name="textAreaLeft" fmla="*/ 0 w 835920"/>
                <a:gd name="textAreaRight" fmla="*/ 836280 w 835920"/>
                <a:gd name="textAreaTop" fmla="*/ 0 h 1659240"/>
                <a:gd name="textAreaBottom" fmla="*/ 1659600 h 1659240"/>
              </a:gdLst>
              <a:ahLst/>
              <a:rect l="textAreaLeft" t="textAreaTop" r="textAreaRight" b="textAreaBottom"/>
              <a:pathLst>
                <a:path w="21600" h="42865">
                  <a:moveTo>
                    <a:pt x="0" y="0"/>
                  </a:moveTo>
                  <a:arcTo wR="0" hR="0" stAng="16200000" swAng="-5400000"/>
                  <a:lnTo>
                    <a:pt x="0" y="42865"/>
                  </a:lnTo>
                  <a:arcTo wR="0" hR="0" stAng="10800000" swAng="-5400000"/>
                  <a:lnTo>
                    <a:pt x="21600" y="42865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5967000" y="4062960"/>
              <a:ext cx="837720" cy="1659240"/>
            </a:xfrm>
            <a:custGeom>
              <a:avLst/>
              <a:gdLst>
                <a:gd name="textAreaLeft" fmla="*/ 0 w 837720"/>
                <a:gd name="textAreaRight" fmla="*/ 838080 w 837720"/>
                <a:gd name="textAreaTop" fmla="*/ 0 h 1659240"/>
                <a:gd name="textAreaBottom" fmla="*/ 1659600 h 1659240"/>
              </a:gdLst>
              <a:ahLst/>
              <a:rect l="textAreaLeft" t="textAreaTop" r="textAreaRight" b="textAreaBottom"/>
              <a:pathLst>
                <a:path w="21600" h="42773">
                  <a:moveTo>
                    <a:pt x="0" y="0"/>
                  </a:moveTo>
                  <a:arcTo wR="0" hR="0" stAng="16200000" swAng="-5400000"/>
                  <a:lnTo>
                    <a:pt x="0" y="42773"/>
                  </a:lnTo>
                  <a:arcTo wR="0" hR="0" stAng="10800000" swAng="-5400000"/>
                  <a:lnTo>
                    <a:pt x="21600" y="42773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6804720" y="4062960"/>
              <a:ext cx="837720" cy="1659240"/>
            </a:xfrm>
            <a:custGeom>
              <a:avLst/>
              <a:gdLst>
                <a:gd name="textAreaLeft" fmla="*/ 0 w 837720"/>
                <a:gd name="textAreaRight" fmla="*/ 838080 w 837720"/>
                <a:gd name="textAreaTop" fmla="*/ 0 h 1659240"/>
                <a:gd name="textAreaBottom" fmla="*/ 1659600 h 1659240"/>
              </a:gdLst>
              <a:ahLst/>
              <a:rect l="textAreaLeft" t="textAreaTop" r="textAreaRight" b="textAreaBottom"/>
              <a:pathLst>
                <a:path w="21600" h="42773">
                  <a:moveTo>
                    <a:pt x="0" y="0"/>
                  </a:moveTo>
                  <a:arcTo wR="0" hR="0" stAng="16200000" swAng="-5400000"/>
                  <a:lnTo>
                    <a:pt x="0" y="42773"/>
                  </a:lnTo>
                  <a:arcTo wR="0" hR="0" stAng="10800000" swAng="-5400000"/>
                  <a:lnTo>
                    <a:pt x="21600" y="42773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6728400" y="2195280"/>
              <a:ext cx="837720" cy="1659240"/>
            </a:xfrm>
            <a:custGeom>
              <a:avLst/>
              <a:gdLst>
                <a:gd name="textAreaLeft" fmla="*/ 0 w 837720"/>
                <a:gd name="textAreaRight" fmla="*/ 838080 w 837720"/>
                <a:gd name="textAreaTop" fmla="*/ 0 h 1659240"/>
                <a:gd name="textAreaBottom" fmla="*/ 1659600 h 1659240"/>
              </a:gdLst>
              <a:ahLst/>
              <a:rect l="textAreaLeft" t="textAreaTop" r="textAreaRight" b="textAreaBottom"/>
              <a:pathLst>
                <a:path w="21600" h="42773">
                  <a:moveTo>
                    <a:pt x="0" y="0"/>
                  </a:moveTo>
                  <a:arcTo wR="0" hR="0" stAng="16200000" swAng="-5400000"/>
                  <a:lnTo>
                    <a:pt x="0" y="42773"/>
                  </a:lnTo>
                  <a:arcTo wR="0" hR="0" stAng="10800000" swAng="-5400000"/>
                  <a:lnTo>
                    <a:pt x="21600" y="42773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5890320" y="2195280"/>
              <a:ext cx="838080" cy="1659240"/>
            </a:xfrm>
            <a:custGeom>
              <a:avLst/>
              <a:gdLst>
                <a:gd name="textAreaLeft" fmla="*/ 0 w 838080"/>
                <a:gd name="textAreaRight" fmla="*/ 838440 w 838080"/>
                <a:gd name="textAreaTop" fmla="*/ 0 h 1659240"/>
                <a:gd name="textAreaBottom" fmla="*/ 1659600 h 1659240"/>
              </a:gdLst>
              <a:ahLst/>
              <a:rect l="textAreaLeft" t="textAreaTop" r="textAreaRight" b="textAreaBottom"/>
              <a:pathLst>
                <a:path w="21600" h="42755">
                  <a:moveTo>
                    <a:pt x="0" y="0"/>
                  </a:moveTo>
                  <a:arcTo wR="0" hR="0" stAng="16200000" swAng="-5400000"/>
                  <a:lnTo>
                    <a:pt x="0" y="42755"/>
                  </a:lnTo>
                  <a:arcTo wR="0" hR="0" stAng="10800000" swAng="-5400000"/>
                  <a:lnTo>
                    <a:pt x="21600" y="42755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5131080" y="2195280"/>
              <a:ext cx="758880" cy="761760"/>
            </a:xfrm>
            <a:custGeom>
              <a:avLst/>
              <a:gdLst>
                <a:gd name="textAreaLeft" fmla="*/ 0 w 758880"/>
                <a:gd name="textAreaRight" fmla="*/ 759240 w 758880"/>
                <a:gd name="textAreaTop" fmla="*/ 0 h 761760"/>
                <a:gd name="textAreaBottom" fmla="*/ 761760 h 761760"/>
              </a:gdLst>
              <a:ahLst/>
              <a:rect l="textAreaLeft" t="textAreaTop" r="textAreaRight" b="textAreaBottom"/>
              <a:pathLst>
                <a:path w="21600" h="21682">
                  <a:moveTo>
                    <a:pt x="0" y="0"/>
                  </a:moveTo>
                  <a:arcTo wR="0" hR="0" stAng="16200000" swAng="-5400000"/>
                  <a:lnTo>
                    <a:pt x="0" y="21682"/>
                  </a:lnTo>
                  <a:arcTo wR="0" hR="0" stAng="10800000" swAng="-5400000"/>
                  <a:lnTo>
                    <a:pt x="21600" y="21682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131080" y="2957040"/>
              <a:ext cx="758880" cy="897480"/>
            </a:xfrm>
            <a:custGeom>
              <a:avLst/>
              <a:gdLst>
                <a:gd name="textAreaLeft" fmla="*/ 0 w 758880"/>
                <a:gd name="textAreaRight" fmla="*/ 759240 w 758880"/>
                <a:gd name="textAreaTop" fmla="*/ 0 h 897480"/>
                <a:gd name="textAreaBottom" fmla="*/ 897840 h 897480"/>
              </a:gdLst>
              <a:ahLst/>
              <a:rect l="textAreaLeft" t="textAreaTop" r="textAreaRight" b="textAreaBottom"/>
              <a:pathLst>
                <a:path w="21600" h="25543">
                  <a:moveTo>
                    <a:pt x="0" y="0"/>
                  </a:moveTo>
                  <a:arcTo wR="0" hR="0" stAng="16200000" swAng="-5400000"/>
                  <a:lnTo>
                    <a:pt x="0" y="25543"/>
                  </a:lnTo>
                  <a:arcTo wR="0" hR="0" stAng="10800000" swAng="-5400000"/>
                  <a:lnTo>
                    <a:pt x="21600" y="25543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3378600" y="2748600"/>
              <a:ext cx="532440" cy="346680"/>
            </a:xfrm>
            <a:prstGeom prst="roundRect">
              <a:avLst>
                <a:gd name="adj" fmla="val 0"/>
              </a:avLst>
            </a:prstGeom>
            <a:noFill/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3911040" y="2748600"/>
              <a:ext cx="381240" cy="346680"/>
            </a:xfrm>
            <a:prstGeom prst="roundRect">
              <a:avLst>
                <a:gd name="adj" fmla="val 0"/>
              </a:avLst>
            </a:prstGeom>
            <a:noFill/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3911040" y="3095280"/>
              <a:ext cx="381240" cy="759240"/>
            </a:xfrm>
            <a:custGeom>
              <a:avLst/>
              <a:gdLst>
                <a:gd name="textAreaLeft" fmla="*/ 0 w 381240"/>
                <a:gd name="textAreaRight" fmla="*/ 381600 w 381240"/>
                <a:gd name="textAreaTop" fmla="*/ 0 h 759240"/>
                <a:gd name="textAreaBottom" fmla="*/ 759600 h 759240"/>
              </a:gdLst>
              <a:ahLst/>
              <a:rect l="textAreaLeft" t="textAreaTop" r="textAreaRight" b="textAreaBottom"/>
              <a:pathLst>
                <a:path w="21600" h="42996">
                  <a:moveTo>
                    <a:pt x="0" y="0"/>
                  </a:moveTo>
                  <a:arcTo wR="0" hR="0" stAng="16200000" swAng="-5400000"/>
                  <a:lnTo>
                    <a:pt x="0" y="42996"/>
                  </a:lnTo>
                  <a:arcTo wR="0" hR="0" stAng="10800000" swAng="-5400000"/>
                  <a:lnTo>
                    <a:pt x="21600" y="42996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378600" y="3095280"/>
              <a:ext cx="532440" cy="759240"/>
            </a:xfrm>
            <a:custGeom>
              <a:avLst/>
              <a:gdLst>
                <a:gd name="textAreaLeft" fmla="*/ 0 w 532440"/>
                <a:gd name="textAreaRight" fmla="*/ 532800 w 532440"/>
                <a:gd name="textAreaTop" fmla="*/ 0 h 759240"/>
                <a:gd name="textAreaBottom" fmla="*/ 759600 h 759240"/>
              </a:gdLst>
              <a:ahLst/>
              <a:rect l="textAreaLeft" t="textAreaTop" r="textAreaRight" b="textAreaBottom"/>
              <a:pathLst>
                <a:path w="21600" h="30795">
                  <a:moveTo>
                    <a:pt x="0" y="0"/>
                  </a:moveTo>
                  <a:arcTo wR="0" hR="0" stAng="16200000" swAng="-5400000"/>
                  <a:lnTo>
                    <a:pt x="0" y="30795"/>
                  </a:lnTo>
                  <a:arcTo wR="0" hR="0" stAng="10800000" swAng="-5400000"/>
                  <a:lnTo>
                    <a:pt x="21600" y="30795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4292640" y="2748600"/>
              <a:ext cx="532440" cy="346680"/>
            </a:xfrm>
            <a:prstGeom prst="roundRect">
              <a:avLst>
                <a:gd name="adj" fmla="val 0"/>
              </a:avLst>
            </a:prstGeom>
            <a:noFill/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292640" y="3095280"/>
              <a:ext cx="532440" cy="344880"/>
            </a:xfrm>
            <a:prstGeom prst="roundRect">
              <a:avLst>
                <a:gd name="adj" fmla="val 0"/>
              </a:avLst>
            </a:prstGeom>
            <a:noFill/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4292640" y="3440160"/>
              <a:ext cx="532440" cy="414360"/>
            </a:xfrm>
            <a:prstGeom prst="roundRect">
              <a:avLst>
                <a:gd name="adj" fmla="val 0"/>
              </a:avLst>
            </a:prstGeom>
            <a:noFill/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7566480" y="2748600"/>
              <a:ext cx="229320" cy="1106280"/>
            </a:xfrm>
            <a:custGeom>
              <a:avLst/>
              <a:gdLst>
                <a:gd name="textAreaLeft" fmla="*/ 0 w 229320"/>
                <a:gd name="textAreaRight" fmla="*/ 229680 w 229320"/>
                <a:gd name="textAreaTop" fmla="*/ 0 h 1106280"/>
                <a:gd name="textAreaBottom" fmla="*/ 1106640 h 1106280"/>
              </a:gdLst>
              <a:ahLst/>
              <a:rect l="textAreaLeft" t="textAreaTop" r="textAreaRight" b="textAreaBottom"/>
              <a:pathLst>
                <a:path w="21600" h="104073">
                  <a:moveTo>
                    <a:pt x="0" y="0"/>
                  </a:moveTo>
                  <a:arcTo wR="0" hR="0" stAng="16200000" swAng="-5400000"/>
                  <a:lnTo>
                    <a:pt x="0" y="104073"/>
                  </a:lnTo>
                  <a:arcTo wR="0" hR="0" stAng="10800000" swAng="-5400000"/>
                  <a:lnTo>
                    <a:pt x="21600" y="104073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7642800" y="4062960"/>
              <a:ext cx="226800" cy="1244160"/>
            </a:xfrm>
            <a:custGeom>
              <a:avLst/>
              <a:gdLst>
                <a:gd name="textAreaLeft" fmla="*/ 0 w 226800"/>
                <a:gd name="textAreaRight" fmla="*/ 227160 w 226800"/>
                <a:gd name="textAreaTop" fmla="*/ 0 h 1244160"/>
                <a:gd name="textAreaBottom" fmla="*/ 1244520 h 1244160"/>
              </a:gdLst>
              <a:ahLst/>
              <a:rect l="textAreaLeft" t="textAreaTop" r="textAreaRight" b="textAreaBottom"/>
              <a:pathLst>
                <a:path w="21600" h="118338">
                  <a:moveTo>
                    <a:pt x="0" y="0"/>
                  </a:moveTo>
                  <a:arcTo wR="0" hR="0" stAng="16200000" swAng="-5400000"/>
                  <a:lnTo>
                    <a:pt x="0" y="118338"/>
                  </a:lnTo>
                  <a:arcTo wR="0" hR="0" stAng="10800000" swAng="-5400000"/>
                  <a:lnTo>
                    <a:pt x="21600" y="11833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7795800" y="2748600"/>
              <a:ext cx="379440" cy="1106280"/>
            </a:xfrm>
            <a:custGeom>
              <a:avLst/>
              <a:gdLst>
                <a:gd name="textAreaLeft" fmla="*/ 0 w 379440"/>
                <a:gd name="textAreaRight" fmla="*/ 379800 w 379440"/>
                <a:gd name="textAreaTop" fmla="*/ 0 h 1106280"/>
                <a:gd name="textAreaBottom" fmla="*/ 1106640 h 1106280"/>
              </a:gdLst>
              <a:ahLst/>
              <a:rect l="textAreaLeft" t="textAreaTop" r="textAreaRight" b="textAreaBottom"/>
              <a:pathLst>
                <a:path w="21600" h="62937">
                  <a:moveTo>
                    <a:pt x="0" y="0"/>
                  </a:moveTo>
                  <a:arcTo wR="0" hR="0" stAng="16200000" swAng="-5400000"/>
                  <a:lnTo>
                    <a:pt x="0" y="62937"/>
                  </a:lnTo>
                  <a:arcTo wR="0" hR="0" stAng="10800000" swAng="-5400000"/>
                  <a:lnTo>
                    <a:pt x="21600" y="62937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7869600" y="4062960"/>
              <a:ext cx="305640" cy="829440"/>
            </a:xfrm>
            <a:custGeom>
              <a:avLst/>
              <a:gdLst>
                <a:gd name="textAreaLeft" fmla="*/ 0 w 305640"/>
                <a:gd name="textAreaRight" fmla="*/ 306000 w 305640"/>
                <a:gd name="textAreaTop" fmla="*/ 0 h 829440"/>
                <a:gd name="textAreaBottom" fmla="*/ 829800 h 829440"/>
              </a:gdLst>
              <a:ahLst/>
              <a:rect l="textAreaLeft" t="textAreaTop" r="textAreaRight" b="textAreaBottom"/>
              <a:pathLst>
                <a:path w="21600" h="58574">
                  <a:moveTo>
                    <a:pt x="0" y="0"/>
                  </a:moveTo>
                  <a:arcTo wR="0" hR="0" stAng="16200000" swAng="-5400000"/>
                  <a:lnTo>
                    <a:pt x="0" y="58574"/>
                  </a:lnTo>
                  <a:arcTo wR="0" hR="0" stAng="10800000" swAng="-5400000"/>
                  <a:lnTo>
                    <a:pt x="21600" y="58574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1475280" y="4960800"/>
              <a:ext cx="305640" cy="415080"/>
            </a:xfrm>
            <a:custGeom>
              <a:avLst/>
              <a:gdLst>
                <a:gd name="textAreaLeft" fmla="*/ 0 w 305640"/>
                <a:gd name="textAreaRight" fmla="*/ 306000 w 305640"/>
                <a:gd name="textAreaTop" fmla="*/ 0 h 415080"/>
                <a:gd name="textAreaBottom" fmla="*/ 415440 h 415080"/>
              </a:gdLst>
              <a:ahLst/>
              <a:rect l="textAreaLeft" t="textAreaTop" r="textAreaRight" b="textAreaBottom"/>
              <a:pathLst>
                <a:path w="21600" h="29325">
                  <a:moveTo>
                    <a:pt x="0" y="0"/>
                  </a:moveTo>
                  <a:arcTo wR="0" hR="0" stAng="16200000" swAng="-5400000"/>
                  <a:lnTo>
                    <a:pt x="0" y="29325"/>
                  </a:lnTo>
                  <a:arcTo wR="0" hR="0" stAng="10800000" swAng="-5400000"/>
                  <a:lnTo>
                    <a:pt x="21600" y="29325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942840" y="2057400"/>
              <a:ext cx="7232400" cy="3665160"/>
            </a:xfrm>
            <a:custGeom>
              <a:avLst/>
              <a:gdLst/>
              <a:ahLst/>
              <a:rect l="l" t="t" r="r" b="b"/>
              <a:pathLst>
                <a:path w="4560" h="2544">
                  <a:moveTo>
                    <a:pt x="0" y="0"/>
                  </a:moveTo>
                  <a:lnTo>
                    <a:pt x="0" y="480"/>
                  </a:lnTo>
                  <a:lnTo>
                    <a:pt x="288" y="480"/>
                  </a:lnTo>
                  <a:lnTo>
                    <a:pt x="288" y="672"/>
                  </a:lnTo>
                  <a:lnTo>
                    <a:pt x="144" y="672"/>
                  </a:lnTo>
                  <a:cubicBezTo>
                    <a:pt x="106" y="789"/>
                    <a:pt x="60" y="1142"/>
                    <a:pt x="60" y="1374"/>
                  </a:cubicBezTo>
                  <a:cubicBezTo>
                    <a:pt x="60" y="1606"/>
                    <a:pt x="98" y="1949"/>
                    <a:pt x="144" y="2064"/>
                  </a:cubicBezTo>
                  <a:lnTo>
                    <a:pt x="336" y="2064"/>
                  </a:lnTo>
                  <a:lnTo>
                    <a:pt x="336" y="2304"/>
                  </a:lnTo>
                  <a:lnTo>
                    <a:pt x="528" y="2304"/>
                  </a:lnTo>
                  <a:lnTo>
                    <a:pt x="528" y="2544"/>
                  </a:lnTo>
                  <a:lnTo>
                    <a:pt x="4224" y="2544"/>
                  </a:lnTo>
                  <a:lnTo>
                    <a:pt x="4224" y="2256"/>
                  </a:lnTo>
                  <a:lnTo>
                    <a:pt x="4368" y="2256"/>
                  </a:lnTo>
                  <a:lnTo>
                    <a:pt x="4368" y="1968"/>
                  </a:lnTo>
                  <a:lnTo>
                    <a:pt x="4560" y="1968"/>
                  </a:lnTo>
                  <a:lnTo>
                    <a:pt x="4560" y="480"/>
                  </a:lnTo>
                  <a:lnTo>
                    <a:pt x="4176" y="480"/>
                  </a:lnTo>
                  <a:lnTo>
                    <a:pt x="4176" y="96"/>
                  </a:lnTo>
                  <a:lnTo>
                    <a:pt x="2352" y="96"/>
                  </a:lnTo>
                  <a:lnTo>
                    <a:pt x="2352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284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7283520" y="2552400"/>
              <a:ext cx="228600" cy="206280"/>
            </a:xfrm>
            <a:prstGeom prst="ellipse">
              <a:avLst/>
            </a:prstGeom>
            <a:gradFill rotWithShape="0">
              <a:gsLst>
                <a:gs pos="0">
                  <a:srgbClr val="cce7e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6804720" y="2610360"/>
              <a:ext cx="228600" cy="208080"/>
            </a:xfrm>
            <a:prstGeom prst="ellipse">
              <a:avLst/>
            </a:prstGeom>
            <a:gradFill rotWithShape="0">
              <a:gsLst>
                <a:gs pos="0">
                  <a:srgbClr val="cce7e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7413840" y="3578400"/>
              <a:ext cx="228600" cy="208080"/>
            </a:xfrm>
            <a:prstGeom prst="ellipse">
              <a:avLst/>
            </a:prstGeom>
            <a:gradFill rotWithShape="0">
              <a:gsLst>
                <a:gs pos="0">
                  <a:srgbClr val="cce7e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7085520" y="2255040"/>
              <a:ext cx="226800" cy="208440"/>
            </a:xfrm>
            <a:prstGeom prst="ellipse">
              <a:avLst/>
            </a:prstGeom>
            <a:gradFill rotWithShape="0">
              <a:gsLst>
                <a:gs pos="0">
                  <a:srgbClr val="cce7e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7566480" y="3786480"/>
              <a:ext cx="229320" cy="206280"/>
            </a:xfrm>
            <a:prstGeom prst="ellipse">
              <a:avLst/>
            </a:prstGeom>
            <a:gradFill rotWithShape="0">
              <a:gsLst>
                <a:gs pos="0">
                  <a:srgbClr val="cce7e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804720" y="3163680"/>
              <a:ext cx="228600" cy="208080"/>
            </a:xfrm>
            <a:prstGeom prst="ellipse">
              <a:avLst/>
            </a:prstGeom>
            <a:gradFill rotWithShape="0">
              <a:gsLst>
                <a:gs pos="0">
                  <a:srgbClr val="cce7e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881040" y="3578400"/>
              <a:ext cx="229320" cy="208080"/>
            </a:xfrm>
            <a:prstGeom prst="ellipse">
              <a:avLst/>
            </a:prstGeom>
            <a:gradFill rotWithShape="0">
              <a:gsLst>
                <a:gs pos="0">
                  <a:srgbClr val="cce7e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5816160" y="3786480"/>
              <a:ext cx="226800" cy="206280"/>
            </a:xfrm>
            <a:prstGeom prst="ellipse">
              <a:avLst/>
            </a:prstGeom>
            <a:gradFill rotWithShape="0">
              <a:gsLst>
                <a:gs pos="0">
                  <a:srgbClr val="cce7e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7033680" y="3925080"/>
              <a:ext cx="226800" cy="206280"/>
            </a:xfrm>
            <a:prstGeom prst="ellipse">
              <a:avLst/>
            </a:prstGeom>
            <a:gradFill rotWithShape="0">
              <a:gsLst>
                <a:gs pos="0">
                  <a:srgbClr val="cce7e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6788520" y="3854880"/>
              <a:ext cx="228600" cy="208080"/>
            </a:xfrm>
            <a:prstGeom prst="ellipse">
              <a:avLst/>
            </a:prstGeom>
            <a:gradFill rotWithShape="0">
              <a:gsLst>
                <a:gs pos="0">
                  <a:srgbClr val="cce7e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6425280" y="3786480"/>
              <a:ext cx="226800" cy="206280"/>
            </a:xfrm>
            <a:prstGeom prst="ellipse">
              <a:avLst/>
            </a:prstGeom>
            <a:gradFill rotWithShape="0">
              <a:gsLst>
                <a:gs pos="0">
                  <a:srgbClr val="cce7e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6119640" y="3786480"/>
              <a:ext cx="228600" cy="206280"/>
            </a:xfrm>
            <a:prstGeom prst="ellipse">
              <a:avLst/>
            </a:prstGeom>
            <a:gradFill rotWithShape="0">
              <a:gsLst>
                <a:gs pos="0">
                  <a:srgbClr val="cce7e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7260840" y="3786480"/>
              <a:ext cx="229320" cy="206280"/>
            </a:xfrm>
            <a:prstGeom prst="ellipse">
              <a:avLst/>
            </a:prstGeom>
            <a:gradFill rotWithShape="0">
              <a:gsLst>
                <a:gs pos="0">
                  <a:srgbClr val="cce7e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596480" y="3786480"/>
              <a:ext cx="228600" cy="206280"/>
            </a:xfrm>
            <a:prstGeom prst="ellipse">
              <a:avLst/>
            </a:prstGeom>
            <a:gradFill rotWithShape="0">
              <a:gsLst>
                <a:gs pos="0">
                  <a:srgbClr val="cce7e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4978080" y="3510000"/>
              <a:ext cx="229320" cy="206280"/>
            </a:xfrm>
            <a:prstGeom prst="ellipse">
              <a:avLst/>
            </a:prstGeom>
            <a:gradFill rotWithShape="0">
              <a:gsLst>
                <a:gs pos="0">
                  <a:srgbClr val="cce7e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978080" y="3233880"/>
              <a:ext cx="229320" cy="206280"/>
            </a:xfrm>
            <a:prstGeom prst="ellipse">
              <a:avLst/>
            </a:prstGeom>
            <a:gradFill rotWithShape="0">
              <a:gsLst>
                <a:gs pos="0">
                  <a:srgbClr val="cce7e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207400" y="3786480"/>
              <a:ext cx="226800" cy="206280"/>
            </a:xfrm>
            <a:prstGeom prst="ellipse">
              <a:avLst/>
            </a:prstGeom>
            <a:gradFill rotWithShape="0">
              <a:gsLst>
                <a:gs pos="0">
                  <a:srgbClr val="cce7e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5510520" y="3854880"/>
              <a:ext cx="229320" cy="208080"/>
            </a:xfrm>
            <a:prstGeom prst="ellipse">
              <a:avLst/>
            </a:prstGeom>
            <a:gradFill rotWithShape="0">
              <a:gsLst>
                <a:gs pos="0">
                  <a:srgbClr val="cce7e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3302280" y="3854880"/>
              <a:ext cx="228600" cy="208080"/>
            </a:xfrm>
            <a:prstGeom prst="ellipse">
              <a:avLst/>
            </a:prstGeom>
            <a:gradFill rotWithShape="0">
              <a:gsLst>
                <a:gs pos="0">
                  <a:srgbClr val="cce7e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4974120" y="3925080"/>
              <a:ext cx="228600" cy="206280"/>
            </a:xfrm>
            <a:prstGeom prst="ellipse">
              <a:avLst/>
            </a:prstGeom>
            <a:gradFill rotWithShape="0">
              <a:gsLst>
                <a:gs pos="0">
                  <a:srgbClr val="cce7e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466360" y="3854880"/>
              <a:ext cx="226800" cy="208080"/>
            </a:xfrm>
            <a:prstGeom prst="ellipse">
              <a:avLst/>
            </a:prstGeom>
            <a:gradFill rotWithShape="0">
              <a:gsLst>
                <a:gs pos="0">
                  <a:srgbClr val="cce7e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4063680" y="3854880"/>
              <a:ext cx="228600" cy="208080"/>
            </a:xfrm>
            <a:prstGeom prst="ellipse">
              <a:avLst/>
            </a:prstGeom>
            <a:gradFill rotWithShape="0">
              <a:gsLst>
                <a:gs pos="0">
                  <a:srgbClr val="cce7e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2769480" y="3786480"/>
              <a:ext cx="228600" cy="206280"/>
            </a:xfrm>
            <a:prstGeom prst="ellipse">
              <a:avLst/>
            </a:prstGeom>
            <a:gradFill rotWithShape="0">
              <a:gsLst>
                <a:gs pos="0">
                  <a:srgbClr val="cce7e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2160720" y="3786480"/>
              <a:ext cx="229320" cy="206280"/>
            </a:xfrm>
            <a:prstGeom prst="ellipse">
              <a:avLst/>
            </a:prstGeom>
            <a:gradFill rotWithShape="0">
              <a:gsLst>
                <a:gs pos="0">
                  <a:srgbClr val="cce7e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1857240" y="3786480"/>
              <a:ext cx="226800" cy="206280"/>
            </a:xfrm>
            <a:prstGeom prst="ellipse">
              <a:avLst/>
            </a:prstGeom>
            <a:gradFill rotWithShape="0">
              <a:gsLst>
                <a:gs pos="0">
                  <a:srgbClr val="cce7e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4978080" y="2610360"/>
              <a:ext cx="229320" cy="208080"/>
            </a:xfrm>
            <a:prstGeom prst="ellipse">
              <a:avLst/>
            </a:prstGeom>
            <a:gradFill rotWithShape="0">
              <a:gsLst>
                <a:gs pos="0">
                  <a:srgbClr val="cce7e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901760" y="2265480"/>
              <a:ext cx="229320" cy="206280"/>
            </a:xfrm>
            <a:prstGeom prst="ellipse">
              <a:avLst/>
            </a:prstGeom>
            <a:gradFill rotWithShape="0">
              <a:gsLst>
                <a:gs pos="0">
                  <a:srgbClr val="cce7e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3683520" y="3854880"/>
              <a:ext cx="227160" cy="208080"/>
            </a:xfrm>
            <a:prstGeom prst="ellipse">
              <a:avLst/>
            </a:prstGeom>
            <a:gradFill rotWithShape="0">
              <a:gsLst>
                <a:gs pos="0">
                  <a:srgbClr val="cce7e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3607560" y="2471760"/>
              <a:ext cx="229320" cy="208440"/>
            </a:xfrm>
            <a:prstGeom prst="ellipse">
              <a:avLst/>
            </a:prstGeom>
            <a:gradFill rotWithShape="0">
              <a:gsLst>
                <a:gs pos="0">
                  <a:srgbClr val="cce7e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216320" y="2471760"/>
              <a:ext cx="229320" cy="208440"/>
            </a:xfrm>
            <a:prstGeom prst="ellipse">
              <a:avLst/>
            </a:prstGeom>
            <a:gradFill rotWithShape="0">
              <a:gsLst>
                <a:gs pos="0">
                  <a:srgbClr val="cce7e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4978080" y="2957040"/>
              <a:ext cx="229320" cy="206280"/>
            </a:xfrm>
            <a:prstGeom prst="ellipse">
              <a:avLst/>
            </a:prstGeom>
            <a:gradFill rotWithShape="0">
              <a:gsLst>
                <a:gs pos="0">
                  <a:srgbClr val="cce7e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911040" y="2471760"/>
              <a:ext cx="228600" cy="208440"/>
            </a:xfrm>
            <a:prstGeom prst="ellipse">
              <a:avLst/>
            </a:prstGeom>
            <a:gradFill rotWithShape="0">
              <a:gsLst>
                <a:gs pos="0">
                  <a:srgbClr val="cce7e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4521960" y="2471760"/>
              <a:ext cx="226800" cy="208440"/>
            </a:xfrm>
            <a:prstGeom prst="ellipse">
              <a:avLst/>
            </a:prstGeom>
            <a:gradFill rotWithShape="0">
              <a:gsLst>
                <a:gs pos="0">
                  <a:srgbClr val="cce7e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93160" y="2471760"/>
              <a:ext cx="228600" cy="208440"/>
            </a:xfrm>
            <a:prstGeom prst="ellipse">
              <a:avLst/>
            </a:prstGeom>
            <a:gradFill rotWithShape="0">
              <a:gsLst>
                <a:gs pos="0">
                  <a:srgbClr val="cce7e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302280" y="2471760"/>
              <a:ext cx="228600" cy="208440"/>
            </a:xfrm>
            <a:prstGeom prst="ellipse">
              <a:avLst/>
            </a:prstGeom>
            <a:gradFill rotWithShape="0">
              <a:gsLst>
                <a:gs pos="0">
                  <a:srgbClr val="cce7e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2998440" y="2354400"/>
              <a:ext cx="229320" cy="208080"/>
            </a:xfrm>
            <a:prstGeom prst="ellipse">
              <a:avLst/>
            </a:prstGeom>
            <a:gradFill rotWithShape="0">
              <a:gsLst>
                <a:gs pos="0">
                  <a:srgbClr val="cce7e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2008080" y="2471760"/>
              <a:ext cx="228600" cy="208440"/>
            </a:xfrm>
            <a:prstGeom prst="ellipse">
              <a:avLst/>
            </a:prstGeom>
            <a:gradFill rotWithShape="0">
              <a:gsLst>
                <a:gs pos="0">
                  <a:srgbClr val="cce7e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390040" y="2471760"/>
              <a:ext cx="226800" cy="208440"/>
            </a:xfrm>
            <a:prstGeom prst="ellipse">
              <a:avLst/>
            </a:prstGeom>
            <a:gradFill rotWithShape="0">
              <a:gsLst>
                <a:gs pos="0">
                  <a:srgbClr val="cce7e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704600" y="2471760"/>
              <a:ext cx="226800" cy="208440"/>
            </a:xfrm>
            <a:prstGeom prst="ellipse">
              <a:avLst/>
            </a:prstGeom>
            <a:gradFill rotWithShape="0">
              <a:gsLst>
                <a:gs pos="0">
                  <a:srgbClr val="cce7e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7413840" y="3163680"/>
              <a:ext cx="228600" cy="208080"/>
            </a:xfrm>
            <a:prstGeom prst="ellipse">
              <a:avLst/>
            </a:prstGeom>
            <a:gradFill rotWithShape="0">
              <a:gsLst>
                <a:gs pos="0">
                  <a:srgbClr val="cce7e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4368960" y="3786480"/>
              <a:ext cx="227160" cy="206280"/>
            </a:xfrm>
            <a:prstGeom prst="ellipse">
              <a:avLst/>
            </a:prstGeom>
            <a:gradFill rotWithShape="0">
              <a:gsLst>
                <a:gs pos="0">
                  <a:srgbClr val="cce7e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4140000" y="4131360"/>
              <a:ext cx="228600" cy="208080"/>
            </a:xfrm>
            <a:prstGeom prst="ellipse">
              <a:avLst/>
            </a:prstGeom>
            <a:gradFill rotWithShape="0">
              <a:gsLst>
                <a:gs pos="0">
                  <a:srgbClr val="cce7e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4140000" y="4546080"/>
              <a:ext cx="228600" cy="208440"/>
            </a:xfrm>
            <a:prstGeom prst="ellipse">
              <a:avLst/>
            </a:prstGeom>
            <a:gradFill rotWithShape="0">
              <a:gsLst>
                <a:gs pos="0">
                  <a:srgbClr val="cce7e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140000" y="5446080"/>
              <a:ext cx="228600" cy="206280"/>
            </a:xfrm>
            <a:prstGeom prst="ellipse">
              <a:avLst/>
            </a:prstGeom>
            <a:gradFill rotWithShape="0">
              <a:gsLst>
                <a:gs pos="0">
                  <a:srgbClr val="cce7e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3454920" y="4339800"/>
              <a:ext cx="228600" cy="206280"/>
            </a:xfrm>
            <a:prstGeom prst="ellipse">
              <a:avLst/>
            </a:prstGeom>
            <a:gradFill rotWithShape="0">
              <a:gsLst>
                <a:gs pos="0">
                  <a:srgbClr val="cce7e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3454920" y="5031000"/>
              <a:ext cx="228600" cy="206280"/>
            </a:xfrm>
            <a:prstGeom prst="ellipse">
              <a:avLst/>
            </a:prstGeom>
            <a:gradFill rotWithShape="0">
              <a:gsLst>
                <a:gs pos="0">
                  <a:srgbClr val="cce7e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2922120" y="4822560"/>
              <a:ext cx="229320" cy="208080"/>
            </a:xfrm>
            <a:prstGeom prst="ellipse">
              <a:avLst/>
            </a:prstGeom>
            <a:gradFill rotWithShape="0">
              <a:gsLst>
                <a:gs pos="0">
                  <a:srgbClr val="cce7e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2922120" y="5307480"/>
              <a:ext cx="229320" cy="206280"/>
            </a:xfrm>
            <a:prstGeom prst="ellipse">
              <a:avLst/>
            </a:prstGeom>
            <a:gradFill rotWithShape="0">
              <a:gsLst>
                <a:gs pos="0">
                  <a:srgbClr val="cce7e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2313000" y="5307480"/>
              <a:ext cx="229320" cy="206280"/>
            </a:xfrm>
            <a:prstGeom prst="ellipse">
              <a:avLst/>
            </a:prstGeom>
            <a:gradFill rotWithShape="0">
              <a:gsLst>
                <a:gs pos="0">
                  <a:srgbClr val="cce7e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2313000" y="4684680"/>
              <a:ext cx="229320" cy="208080"/>
            </a:xfrm>
            <a:prstGeom prst="ellipse">
              <a:avLst/>
            </a:prstGeom>
            <a:gradFill rotWithShape="0">
              <a:gsLst>
                <a:gs pos="0">
                  <a:srgbClr val="cce7e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390040" y="4062960"/>
              <a:ext cx="226800" cy="206280"/>
            </a:xfrm>
            <a:prstGeom prst="ellipse">
              <a:avLst/>
            </a:prstGeom>
            <a:gradFill rotWithShape="0">
              <a:gsLst>
                <a:gs pos="0">
                  <a:srgbClr val="cce7e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1780920" y="4062960"/>
              <a:ext cx="226800" cy="206280"/>
            </a:xfrm>
            <a:prstGeom prst="ellipse">
              <a:avLst/>
            </a:prstGeom>
            <a:gradFill rotWithShape="0">
              <a:gsLst>
                <a:gs pos="0">
                  <a:srgbClr val="cce7e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551600" y="4546080"/>
              <a:ext cx="229320" cy="208440"/>
            </a:xfrm>
            <a:prstGeom prst="ellipse">
              <a:avLst/>
            </a:prstGeom>
            <a:gradFill rotWithShape="0">
              <a:gsLst>
                <a:gs pos="0">
                  <a:srgbClr val="cce7e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1780920" y="5307480"/>
              <a:ext cx="226800" cy="206280"/>
            </a:xfrm>
            <a:prstGeom prst="ellipse">
              <a:avLst/>
            </a:prstGeom>
            <a:gradFill rotWithShape="0">
              <a:gsLst>
                <a:gs pos="0">
                  <a:srgbClr val="cce7e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140000" y="4960800"/>
              <a:ext cx="228600" cy="208440"/>
            </a:xfrm>
            <a:prstGeom prst="ellipse">
              <a:avLst/>
            </a:prstGeom>
            <a:gradFill rotWithShape="0">
              <a:gsLst>
                <a:gs pos="0">
                  <a:srgbClr val="cce7e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2" name=""/>
          <p:cNvSpPr/>
          <p:nvPr/>
        </p:nvSpPr>
        <p:spPr>
          <a:xfrm>
            <a:off x="5181480" y="3809880"/>
            <a:ext cx="612720" cy="612720"/>
          </a:xfrm>
          <a:prstGeom prst="ellipse">
            <a:avLst/>
          </a:prstGeom>
          <a:gradFill rotWithShape="0">
            <a:gsLst>
              <a:gs pos="0">
                <a:srgbClr val="afdb83"/>
              </a:gs>
              <a:gs pos="100000">
                <a:srgbClr val="ccff99"/>
              </a:gs>
            </a:gsLst>
            <a:path path="rect">
              <a:fillToRect l="50000" t="50000" r="50000" b="50000"/>
            </a:path>
          </a:gradFill>
          <a:ln w="3240">
            <a:solidFill>
              <a:srgbClr val="cc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  <a:ea typeface="굴림"/>
              </a:rPr>
              <a:t>Pursu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3" name=""/>
          <p:cNvGrpSpPr/>
          <p:nvPr/>
        </p:nvGrpSpPr>
        <p:grpSpPr>
          <a:xfrm>
            <a:off x="2502360" y="2431080"/>
            <a:ext cx="2770200" cy="1683360"/>
            <a:chOff x="2502360" y="2431080"/>
            <a:chExt cx="2770200" cy="1683360"/>
          </a:xfrm>
        </p:grpSpPr>
        <p:cxnSp>
          <p:nvCxnSpPr>
            <p:cNvPr id="594" name=""/>
            <p:cNvCxnSpPr>
              <a:stCxn id="574" idx="4"/>
              <a:endCxn id="592" idx="2"/>
            </p:cNvCxnSpPr>
            <p:nvPr/>
          </p:nvCxnSpPr>
          <p:spPr>
            <a:xfrm flipH="1" rot="16200000">
              <a:off x="3124080" y="2057760"/>
              <a:ext cx="1435320" cy="2678760"/>
            </a:xfrm>
            <a:prstGeom prst="curvedConnector2">
              <a:avLst/>
            </a:prstGeom>
            <a:ln w="28440">
              <a:solidFill>
                <a:srgbClr val="ff9900"/>
              </a:solidFill>
              <a:miter/>
              <a:tailEnd len="med" type="triangle" w="med"/>
            </a:ln>
          </p:spPr>
        </p:cxnSp>
        <p:cxnSp>
          <p:nvCxnSpPr>
            <p:cNvPr id="595" name=""/>
            <p:cNvCxnSpPr>
              <a:stCxn id="570" idx="4"/>
              <a:endCxn id="592" idx="2"/>
            </p:cNvCxnSpPr>
            <p:nvPr/>
          </p:nvCxnSpPr>
          <p:spPr>
            <a:xfrm flipH="1" rot="16200000">
              <a:off x="3277440" y="2210040"/>
              <a:ext cx="1435320" cy="2373840"/>
            </a:xfrm>
            <a:prstGeom prst="curvedConnector2">
              <a:avLst/>
            </a:prstGeom>
            <a:ln w="28440">
              <a:solidFill>
                <a:srgbClr val="ff9900"/>
              </a:solidFill>
              <a:miter/>
              <a:tailEnd len="med" type="triangle" w="med"/>
            </a:ln>
          </p:spPr>
        </p:cxnSp>
        <p:cxnSp>
          <p:nvCxnSpPr>
            <p:cNvPr id="596" name=""/>
            <p:cNvCxnSpPr>
              <a:stCxn id="572" idx="6"/>
              <a:endCxn id="592" idx="1"/>
            </p:cNvCxnSpPr>
            <p:nvPr/>
          </p:nvCxnSpPr>
          <p:spPr>
            <a:xfrm>
              <a:off x="3227400" y="2457360"/>
              <a:ext cx="2045520" cy="1442160"/>
            </a:xfrm>
            <a:prstGeom prst="curvedConnector2">
              <a:avLst/>
            </a:prstGeom>
            <a:ln w="28440">
              <a:solidFill>
                <a:srgbClr val="ff9900"/>
              </a:solidFill>
              <a:miter/>
              <a:tailEnd len="med" type="triangle" w="med"/>
            </a:ln>
          </p:spPr>
        </p:cxnSp>
        <p:cxnSp>
          <p:nvCxnSpPr>
            <p:cNvPr id="597" name=""/>
            <p:cNvCxnSpPr>
              <a:stCxn id="571" idx="5"/>
              <a:endCxn id="592" idx="1"/>
            </p:cNvCxnSpPr>
            <p:nvPr/>
          </p:nvCxnSpPr>
          <p:spPr>
            <a:xfrm flipH="1" rot="16200000">
              <a:off x="3759840" y="2386080"/>
              <a:ext cx="1250280" cy="1775520"/>
            </a:xfrm>
            <a:prstGeom prst="curvedConnector5">
              <a:avLst>
                <a:gd name="adj1" fmla="val -2390"/>
                <a:gd name="adj2" fmla="val 49989"/>
                <a:gd name="adj3" fmla="val -2390"/>
              </a:avLst>
            </a:prstGeom>
            <a:ln w="28440">
              <a:solidFill>
                <a:srgbClr val="ff9900"/>
              </a:solidFill>
              <a:miter/>
              <a:tailEnd len="med" type="triangle" w="med"/>
            </a:ln>
          </p:spPr>
        </p:cxnSp>
        <p:cxnSp>
          <p:nvCxnSpPr>
            <p:cNvPr id="598" name=""/>
            <p:cNvCxnSpPr>
              <a:stCxn id="565" idx="7"/>
              <a:endCxn id="592" idx="1"/>
            </p:cNvCxnSpPr>
            <p:nvPr/>
          </p:nvCxnSpPr>
          <p:spPr>
            <a:xfrm flipH="1" rot="16200000">
              <a:off x="3838320" y="2464200"/>
              <a:ext cx="1399320" cy="1469160"/>
            </a:xfrm>
            <a:prstGeom prst="curvedConnector5">
              <a:avLst>
                <a:gd name="adj1" fmla="val -4863"/>
                <a:gd name="adj2" fmla="val 50000"/>
                <a:gd name="adj3" fmla="val -4863"/>
              </a:avLst>
            </a:prstGeom>
            <a:ln w="28440">
              <a:solidFill>
                <a:srgbClr val="ff9900"/>
              </a:solidFill>
              <a:miter/>
              <a:tailEnd len="med" type="triangle" w="med"/>
            </a:ln>
          </p:spPr>
        </p:cxnSp>
      </p:grpSp>
      <p:grpSp>
        <p:nvGrpSpPr>
          <p:cNvPr id="599" name=""/>
          <p:cNvGrpSpPr/>
          <p:nvPr/>
        </p:nvGrpSpPr>
        <p:grpSpPr>
          <a:xfrm>
            <a:off x="2389320" y="2347920"/>
            <a:ext cx="1447560" cy="326880"/>
            <a:chOff x="2389320" y="2347920"/>
            <a:chExt cx="1447560" cy="326880"/>
          </a:xfrm>
        </p:grpSpPr>
        <p:sp>
          <p:nvSpPr>
            <p:cNvPr id="600" name=""/>
            <p:cNvSpPr/>
            <p:nvPr/>
          </p:nvSpPr>
          <p:spPr>
            <a:xfrm>
              <a:off x="3608280" y="2465280"/>
              <a:ext cx="228600" cy="209520"/>
            </a:xfrm>
            <a:prstGeom prst="ellipse">
              <a:avLst/>
            </a:prstGeom>
            <a:solidFill>
              <a:srgbClr val="ff9900"/>
            </a:solidFill>
            <a:ln w="32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2693880" y="2465280"/>
              <a:ext cx="228600" cy="209520"/>
            </a:xfrm>
            <a:prstGeom prst="ellipse">
              <a:avLst/>
            </a:prstGeom>
            <a:solidFill>
              <a:srgbClr val="ff9900"/>
            </a:solidFill>
            <a:ln w="32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3301920" y="2465280"/>
              <a:ext cx="228600" cy="209520"/>
            </a:xfrm>
            <a:prstGeom prst="ellipse">
              <a:avLst/>
            </a:prstGeom>
            <a:solidFill>
              <a:srgbClr val="ff9900"/>
            </a:solidFill>
            <a:ln w="32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2998800" y="2347920"/>
              <a:ext cx="228600" cy="209520"/>
            </a:xfrm>
            <a:prstGeom prst="ellipse">
              <a:avLst/>
            </a:prstGeom>
            <a:solidFill>
              <a:srgbClr val="ff9900"/>
            </a:solidFill>
            <a:ln w="32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2389320" y="2465280"/>
              <a:ext cx="226800" cy="209520"/>
            </a:xfrm>
            <a:prstGeom prst="ellipse">
              <a:avLst/>
            </a:prstGeom>
            <a:solidFill>
              <a:srgbClr val="ff9900"/>
            </a:solidFill>
            <a:ln w="32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5" name=""/>
          <p:cNvGrpSpPr/>
          <p:nvPr/>
        </p:nvGrpSpPr>
        <p:grpSpPr>
          <a:xfrm>
            <a:off x="2743200" y="2338920"/>
            <a:ext cx="4811760" cy="3289680"/>
            <a:chOff x="2743200" y="2338920"/>
            <a:chExt cx="4811760" cy="3289680"/>
          </a:xfrm>
        </p:grpSpPr>
        <p:sp>
          <p:nvSpPr>
            <p:cNvPr id="606" name=""/>
            <p:cNvSpPr/>
            <p:nvPr/>
          </p:nvSpPr>
          <p:spPr>
            <a:xfrm rot="20688600">
              <a:off x="6175440" y="3284640"/>
              <a:ext cx="1292040" cy="838080"/>
            </a:xfrm>
            <a:custGeom>
              <a:avLst/>
              <a:gdLst>
                <a:gd name="textAreaLeft" fmla="*/ 201600 w 1292040"/>
                <a:gd name="textAreaRight" fmla="*/ 1130760 w 1292040"/>
                <a:gd name="textAreaTop" fmla="*/ 209520 h 838080"/>
                <a:gd name="textAreaBottom" fmla="*/ 628560 h 83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ccff99"/>
            </a:solidFill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 rot="9535200">
              <a:off x="3580920" y="4572000"/>
              <a:ext cx="1371600" cy="838080"/>
            </a:xfrm>
            <a:custGeom>
              <a:avLst/>
              <a:gdLst>
                <a:gd name="textAreaLeft" fmla="*/ 214200 w 1371600"/>
                <a:gd name="textAreaRight" fmla="*/ 1200240 w 1371600"/>
                <a:gd name="textAreaTop" fmla="*/ 209520 h 838080"/>
                <a:gd name="textAreaBottom" fmla="*/ 628560 h 83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ccff99"/>
            </a:solidFill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 rot="10800000">
              <a:off x="2743200" y="3733920"/>
              <a:ext cx="1905120" cy="838080"/>
            </a:xfrm>
            <a:custGeom>
              <a:avLst/>
              <a:gdLst>
                <a:gd name="textAreaLeft" fmla="*/ 297720 w 1905120"/>
                <a:gd name="textAreaRight" fmla="*/ 1667160 w 1905120"/>
                <a:gd name="textAreaTop" fmla="*/ 209520 h 838080"/>
                <a:gd name="textAreaBottom" fmla="*/ 628560 h 83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ccff99"/>
            </a:solidFill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 rot="13012200">
              <a:off x="3657600" y="2666520"/>
              <a:ext cx="1371600" cy="838440"/>
            </a:xfrm>
            <a:custGeom>
              <a:avLst/>
              <a:gdLst>
                <a:gd name="textAreaLeft" fmla="*/ 214200 w 1371600"/>
                <a:gd name="textAreaRight" fmla="*/ 1200240 w 1371600"/>
                <a:gd name="textAreaTop" fmla="*/ 209520 h 838440"/>
                <a:gd name="textAreaBottom" fmla="*/ 628920 h 83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ccff99"/>
            </a:solidFill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0" name=""/>
          <p:cNvSpPr/>
          <p:nvPr/>
        </p:nvSpPr>
        <p:spPr>
          <a:xfrm>
            <a:off x="2209680" y="1843200"/>
            <a:ext cx="1752840" cy="366480"/>
          </a:xfrm>
          <a:prstGeom prst="rect">
            <a:avLst/>
          </a:prstGeom>
          <a:solidFill>
            <a:srgbClr val="ff9900"/>
          </a:solidFill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Evader Detec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5410080" y="4572000"/>
            <a:ext cx="1828800" cy="366840"/>
          </a:xfrm>
          <a:prstGeom prst="rect">
            <a:avLst/>
          </a:prstGeom>
          <a:solidFill>
            <a:srgbClr val="ccff99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Re-task the mo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2" name=""/>
          <p:cNvGrpSpPr/>
          <p:nvPr/>
        </p:nvGrpSpPr>
        <p:grpSpPr>
          <a:xfrm>
            <a:off x="3000240" y="2352600"/>
            <a:ext cx="532080" cy="327240"/>
            <a:chOff x="3000240" y="2352600"/>
            <a:chExt cx="532080" cy="327240"/>
          </a:xfrm>
        </p:grpSpPr>
        <p:sp>
          <p:nvSpPr>
            <p:cNvPr id="613" name=""/>
            <p:cNvSpPr/>
            <p:nvPr/>
          </p:nvSpPr>
          <p:spPr>
            <a:xfrm>
              <a:off x="3303720" y="2470320"/>
              <a:ext cx="228600" cy="209520"/>
            </a:xfrm>
            <a:prstGeom prst="ellipse">
              <a:avLst/>
            </a:prstGeom>
            <a:solidFill>
              <a:srgbClr val="ff9900"/>
            </a:solidFill>
            <a:ln w="32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3000240" y="2352600"/>
              <a:ext cx="228600" cy="209520"/>
            </a:xfrm>
            <a:prstGeom prst="ellipse">
              <a:avLst/>
            </a:prstGeom>
            <a:solidFill>
              <a:srgbClr val="ff9900"/>
            </a:solidFill>
            <a:ln w="32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5" name=""/>
          <p:cNvGrpSpPr/>
          <p:nvPr/>
        </p:nvGrpSpPr>
        <p:grpSpPr>
          <a:xfrm>
            <a:off x="3212640" y="2444760"/>
            <a:ext cx="2045160" cy="1441800"/>
            <a:chOff x="3212640" y="2444760"/>
            <a:chExt cx="2045160" cy="1441800"/>
          </a:xfrm>
        </p:grpSpPr>
        <p:cxnSp>
          <p:nvCxnSpPr>
            <p:cNvPr id="616" name=""/>
            <p:cNvCxnSpPr/>
            <p:nvPr/>
          </p:nvCxnSpPr>
          <p:spPr>
            <a:xfrm>
              <a:off x="3212640" y="2444760"/>
              <a:ext cx="2045160" cy="1442160"/>
            </a:xfrm>
            <a:prstGeom prst="curvedConnector2">
              <a:avLst/>
            </a:prstGeom>
            <a:ln w="28440">
              <a:solidFill>
                <a:srgbClr val="ff9900"/>
              </a:solidFill>
              <a:miter/>
              <a:tailEnd len="med" type="triangle" w="med"/>
            </a:ln>
          </p:spPr>
        </p:cxnSp>
        <p:cxnSp>
          <p:nvCxnSpPr>
            <p:cNvPr id="617" name=""/>
            <p:cNvCxnSpPr/>
            <p:nvPr/>
          </p:nvCxnSpPr>
          <p:spPr>
            <a:xfrm flipH="1" rot="16200000">
              <a:off x="3745440" y="2373840"/>
              <a:ext cx="1249920" cy="1775520"/>
            </a:xfrm>
            <a:prstGeom prst="curvedConnector5">
              <a:avLst>
                <a:gd name="adj1" fmla="val -2391"/>
                <a:gd name="adj2" fmla="val 49989"/>
                <a:gd name="adj3" fmla="val -2391"/>
              </a:avLst>
            </a:prstGeom>
            <a:ln w="28440">
              <a:solidFill>
                <a:srgbClr val="ff9900"/>
              </a:solidFill>
              <a:miter/>
              <a:tailEnd len="med" type="triangle" w="med"/>
            </a:ln>
          </p:spPr>
        </p:cxnSp>
      </p:grpSp>
      <p:sp>
        <p:nvSpPr>
          <p:cNvPr id="618" name=""/>
          <p:cNvSpPr/>
          <p:nvPr/>
        </p:nvSpPr>
        <p:spPr>
          <a:xfrm>
            <a:off x="5410080" y="4572000"/>
            <a:ext cx="1828800" cy="366840"/>
          </a:xfrm>
          <a:prstGeom prst="rect">
            <a:avLst/>
          </a:prstGeom>
          <a:solidFill>
            <a:srgbClr val="ccff99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Task the mo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2819520" y="2514600"/>
            <a:ext cx="609480" cy="609480"/>
          </a:xfrm>
          <a:prstGeom prst="ellipse">
            <a:avLst/>
          </a:prstGeom>
          <a:gradFill rotWithShape="0">
            <a:gsLst>
              <a:gs pos="0">
                <a:srgbClr val="a50021"/>
              </a:gs>
              <a:gs pos="100000">
                <a:srgbClr val="d41616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굴림"/>
              </a:rPr>
              <a:t>Eva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5181480" y="3809880"/>
            <a:ext cx="612720" cy="612720"/>
          </a:xfrm>
          <a:prstGeom prst="ellipse">
            <a:avLst/>
          </a:prstGeom>
          <a:gradFill rotWithShape="0">
            <a:gsLst>
              <a:gs pos="0">
                <a:srgbClr val="afdb83"/>
              </a:gs>
              <a:gs pos="100000">
                <a:srgbClr val="ccff99"/>
              </a:gs>
            </a:gsLst>
            <a:path path="rect">
              <a:fillToRect l="50000" t="50000" r="50000" b="50000"/>
            </a:path>
          </a:gradFill>
          <a:ln w="3240">
            <a:solidFill>
              <a:srgbClr val="cc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  <a:ea typeface="굴림"/>
              </a:rPr>
              <a:t>Pursu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1" name=""/>
          <p:cNvGrpSpPr/>
          <p:nvPr/>
        </p:nvGrpSpPr>
        <p:grpSpPr>
          <a:xfrm>
            <a:off x="2390760" y="2352600"/>
            <a:ext cx="1447560" cy="326880"/>
            <a:chOff x="2390760" y="2352600"/>
            <a:chExt cx="1447560" cy="326880"/>
          </a:xfrm>
        </p:grpSpPr>
        <p:sp>
          <p:nvSpPr>
            <p:cNvPr id="622" name=""/>
            <p:cNvSpPr/>
            <p:nvPr/>
          </p:nvSpPr>
          <p:spPr>
            <a:xfrm>
              <a:off x="3609720" y="2469960"/>
              <a:ext cx="228600" cy="209520"/>
            </a:xfrm>
            <a:prstGeom prst="ellipse">
              <a:avLst/>
            </a:prstGeom>
            <a:solidFill>
              <a:srgbClr val="ff9900"/>
            </a:solidFill>
            <a:ln w="32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2695320" y="2469960"/>
              <a:ext cx="228600" cy="209520"/>
            </a:xfrm>
            <a:prstGeom prst="ellipse">
              <a:avLst/>
            </a:prstGeom>
            <a:solidFill>
              <a:srgbClr val="ff9900"/>
            </a:solidFill>
            <a:ln w="32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3303360" y="2469960"/>
              <a:ext cx="228600" cy="209520"/>
            </a:xfrm>
            <a:prstGeom prst="ellipse">
              <a:avLst/>
            </a:prstGeom>
            <a:solidFill>
              <a:srgbClr val="ff9900"/>
            </a:solidFill>
            <a:ln w="32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3000240" y="2352600"/>
              <a:ext cx="228600" cy="209520"/>
            </a:xfrm>
            <a:prstGeom prst="ellipse">
              <a:avLst/>
            </a:prstGeom>
            <a:solidFill>
              <a:srgbClr val="ff9900"/>
            </a:solidFill>
            <a:ln w="32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2390760" y="2469960"/>
              <a:ext cx="226800" cy="209520"/>
            </a:xfrm>
            <a:prstGeom prst="ellipse">
              <a:avLst/>
            </a:prstGeom>
            <a:solidFill>
              <a:srgbClr val="ff9900"/>
            </a:solidFill>
            <a:ln w="32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2209680" y="1828800"/>
            <a:ext cx="1752840" cy="366840"/>
          </a:xfrm>
          <a:prstGeom prst="rect">
            <a:avLst/>
          </a:prstGeom>
          <a:solidFill>
            <a:srgbClr val="ff9900"/>
          </a:solidFill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Evader Detec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2819520" y="2514600"/>
            <a:ext cx="609480" cy="609480"/>
          </a:xfrm>
          <a:prstGeom prst="ellipse">
            <a:avLst/>
          </a:prstGeom>
          <a:gradFill rotWithShape="0">
            <a:gsLst>
              <a:gs pos="0">
                <a:srgbClr val="a50021"/>
              </a:gs>
              <a:gs pos="100000">
                <a:srgbClr val="d41616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굴림"/>
              </a:rPr>
              <a:t>Eva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2209680" y="1461960"/>
            <a:ext cx="1752840" cy="366840"/>
          </a:xfrm>
          <a:prstGeom prst="rect">
            <a:avLst/>
          </a:prstGeom>
          <a:solidFill>
            <a:srgbClr val="ffff66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Leader 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2390760" y="2347920"/>
            <a:ext cx="1447560" cy="326880"/>
            <a:chOff x="2390760" y="2347920"/>
            <a:chExt cx="1447560" cy="326880"/>
          </a:xfrm>
        </p:grpSpPr>
        <p:sp>
          <p:nvSpPr>
            <p:cNvPr id="631" name=""/>
            <p:cNvSpPr/>
            <p:nvPr/>
          </p:nvSpPr>
          <p:spPr>
            <a:xfrm>
              <a:off x="3609720" y="2465280"/>
              <a:ext cx="228600" cy="209520"/>
            </a:xfrm>
            <a:prstGeom prst="ellipse">
              <a:avLst/>
            </a:prstGeom>
            <a:solidFill>
              <a:srgbClr val="ffff66"/>
            </a:solidFill>
            <a:ln w="3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2695320" y="2465280"/>
              <a:ext cx="228600" cy="209520"/>
            </a:xfrm>
            <a:prstGeom prst="ellipse">
              <a:avLst/>
            </a:prstGeom>
            <a:solidFill>
              <a:srgbClr val="ffff66"/>
            </a:solidFill>
            <a:ln w="3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3303360" y="2465280"/>
              <a:ext cx="228600" cy="209520"/>
            </a:xfrm>
            <a:prstGeom prst="ellipse">
              <a:avLst/>
            </a:prstGeom>
            <a:solidFill>
              <a:srgbClr val="ffff66"/>
            </a:solidFill>
            <a:ln w="3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3000240" y="2347920"/>
              <a:ext cx="228600" cy="209520"/>
            </a:xfrm>
            <a:prstGeom prst="ellipse">
              <a:avLst/>
            </a:prstGeom>
            <a:solidFill>
              <a:srgbClr val="ffff66"/>
            </a:solidFill>
            <a:ln w="3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2390760" y="2465280"/>
              <a:ext cx="226800" cy="209520"/>
            </a:xfrm>
            <a:prstGeom prst="ellipse">
              <a:avLst/>
            </a:prstGeom>
            <a:solidFill>
              <a:srgbClr val="ffff66"/>
            </a:solidFill>
            <a:ln w="3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6" name=""/>
          <p:cNvSpPr/>
          <p:nvPr/>
        </p:nvSpPr>
        <p:spPr>
          <a:xfrm>
            <a:off x="2819520" y="1978200"/>
            <a:ext cx="612720" cy="612720"/>
          </a:xfrm>
          <a:prstGeom prst="ellipse">
            <a:avLst/>
          </a:prstGeom>
          <a:solidFill>
            <a:srgbClr val="ffcc66"/>
          </a:solidFill>
          <a:ln w="3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  <a:ea typeface="굴림"/>
              </a:rPr>
              <a:t>Lea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37" name=""/>
          <p:cNvCxnSpPr>
            <a:stCxn id="636" idx="5"/>
            <a:endCxn id="620" idx="1"/>
          </p:cNvCxnSpPr>
          <p:nvPr/>
        </p:nvCxnSpPr>
        <p:spPr>
          <a:xfrm flipH="1" rot="16200000">
            <a:off x="3605760" y="2234880"/>
            <a:ext cx="1400760" cy="1931400"/>
          </a:xfrm>
          <a:prstGeom prst="curvedConnector5">
            <a:avLst>
              <a:gd name="adj1" fmla="val 15758"/>
              <a:gd name="adj2" fmla="val 50000"/>
              <a:gd name="adj3" fmla="val 15758"/>
            </a:avLst>
          </a:prstGeom>
          <a:ln w="38160">
            <a:solidFill>
              <a:srgbClr val="ff9900"/>
            </a:solidFill>
            <a:miter/>
            <a:tailEnd len="med" type="triangle" w="med"/>
          </a:ln>
        </p:spPr>
      </p:cxnSp>
      <p:sp>
        <p:nvSpPr>
          <p:cNvPr id="638" name=""/>
          <p:cNvSpPr/>
          <p:nvPr/>
        </p:nvSpPr>
        <p:spPr>
          <a:xfrm>
            <a:off x="3414600" y="5791320"/>
            <a:ext cx="22860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99"/>
                </a:solidFill>
                <a:uFillTx/>
                <a:latin typeface="Arial"/>
                <a:ea typeface="굴림"/>
              </a:rPr>
              <a:t>Mote-PE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3414600" y="5791320"/>
            <a:ext cx="2286000" cy="685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99"/>
                </a:solidFill>
                <a:uFillTx/>
                <a:latin typeface="Arial"/>
                <a:ea typeface="굴림"/>
              </a:rPr>
              <a:t>Tenet-PE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5B42C-7212-4FE4-BE67-E34DA84BC27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0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fill="hold">
                            <p:stCondLst>
                              <p:cond delay="500"/>
                            </p:stCondLst>
                            <p:childTnLst>
                              <p:par>
                                <p:cTn id="57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5" dur="10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7" dur="10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8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fill="hold">
                            <p:stCondLst>
                              <p:cond delay="500"/>
                            </p:stCondLst>
                            <p:childTnLst>
                              <p:par>
                                <p:cTn id="6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1" dur="10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"/>
          <p:cNvSpPr/>
          <p:nvPr/>
        </p:nvSpPr>
        <p:spPr>
          <a:xfrm>
            <a:off x="762120" y="5486400"/>
            <a:ext cx="358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Error in Position Estim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4876920" y="5486400"/>
            <a:ext cx="396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Reporting Message Overhe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Times New Roman"/>
                <a:ea typeface="굴림"/>
              </a:rPr>
              <a:t>PEG Results-1</a:t>
            </a: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643" name=""/>
          <p:cNvGraphicFramePr/>
          <p:nvPr/>
        </p:nvGraphicFramePr>
        <p:xfrm>
          <a:off x="304920" y="1447920"/>
          <a:ext cx="4038480" cy="409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447920"/>
                    <a:ext cx="4038480" cy="409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5" name=""/>
          <p:cNvSpPr/>
          <p:nvPr/>
        </p:nvSpPr>
        <p:spPr>
          <a:xfrm>
            <a:off x="838080" y="5334120"/>
            <a:ext cx="3429000" cy="76176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  <a:ea typeface="굴림"/>
              </a:rPr>
              <a:t>Comparable positional estimate err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5105520" y="5334120"/>
            <a:ext cx="3429000" cy="76176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  <a:ea typeface="굴림"/>
              </a:rPr>
              <a:t>Comparable reporting message overhea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7" name=""/>
          <p:cNvGraphicFramePr/>
          <p:nvPr/>
        </p:nvGraphicFramePr>
        <p:xfrm>
          <a:off x="4648320" y="1371600"/>
          <a:ext cx="3647880" cy="4019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4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371600"/>
                    <a:ext cx="3647880" cy="401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22B3E-A406-47CB-B93E-12E7CB0B6AF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Times New Roman"/>
                <a:ea typeface="굴림"/>
              </a:rPr>
              <a:t>PEG Results-2</a:t>
            </a: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650" name="" descr=""/>
          <p:cNvPicPr/>
          <p:nvPr/>
        </p:nvPicPr>
        <p:blipFill>
          <a:blip r:embed="rId1"/>
          <a:stretch/>
        </p:blipFill>
        <p:spPr>
          <a:xfrm>
            <a:off x="1962000" y="1716120"/>
            <a:ext cx="4743720" cy="3008160"/>
          </a:xfrm>
          <a:prstGeom prst="rect">
            <a:avLst/>
          </a:prstGeom>
          <a:ln w="0">
            <a:noFill/>
          </a:ln>
        </p:spPr>
      </p:pic>
      <p:sp>
        <p:nvSpPr>
          <p:cNvPr id="651" name=""/>
          <p:cNvSpPr/>
          <p:nvPr/>
        </p:nvSpPr>
        <p:spPr>
          <a:xfrm>
            <a:off x="2819520" y="4952880"/>
            <a:ext cx="3809880" cy="54936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  <a:ea typeface="굴림"/>
              </a:rPr>
              <a:t>Latenc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 is nearly identic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1038240" y="2819520"/>
            <a:ext cx="7086600" cy="129528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굴림"/>
              </a:rPr>
              <a:t>A Tenet implementation of an application can perform as well as an implementation with     in-mote collaborative f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E270D-5ACE-4EE2-90F1-1C0B4B461BF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4" dur="indefinite" restart="never" nodeType="tmRoot">
          <p:childTnLst>
            <p:seq>
              <p:cTn id="675" dur="indefinite" nodeType="mainSeq">
                <p:childTnLst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4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indefinite"/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6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indefinite"/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3" name=""/>
          <p:cNvGrpSpPr/>
          <p:nvPr/>
        </p:nvGrpSpPr>
        <p:grpSpPr>
          <a:xfrm>
            <a:off x="1454040" y="2562120"/>
            <a:ext cx="641520" cy="654120"/>
            <a:chOff x="1454040" y="2562120"/>
            <a:chExt cx="641520" cy="654120"/>
          </a:xfrm>
        </p:grpSpPr>
        <p:sp>
          <p:nvSpPr>
            <p:cNvPr id="654" name=""/>
            <p:cNvSpPr/>
            <p:nvPr/>
          </p:nvSpPr>
          <p:spPr>
            <a:xfrm>
              <a:off x="1454040" y="2562120"/>
              <a:ext cx="641520" cy="654120"/>
            </a:xfrm>
            <a:prstGeom prst="ellipse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1892160" y="2940120"/>
              <a:ext cx="106560" cy="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5f5f5f"/>
                  </a:solidFill>
                  <a:latin typeface="Arial"/>
                  <a:ea typeface="굴림"/>
                </a:rPr>
                <a:t>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1924200" y="2800440"/>
              <a:ext cx="106200" cy="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5f5f5f"/>
                  </a:solidFill>
                  <a:latin typeface="Arial"/>
                  <a:ea typeface="굴림"/>
                </a:rPr>
                <a:t>W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1645200" y="2797560"/>
              <a:ext cx="253080" cy="1458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headEnd len="sm" type="triangle" w="med"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1623240" y="2835360"/>
              <a:ext cx="296280" cy="727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headEnd len="sm" type="triangle" w="med"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59" name="" descr=""/>
          <p:cNvPicPr/>
          <p:nvPr/>
        </p:nvPicPr>
        <p:blipFill>
          <a:blip r:embed="rId1"/>
          <a:stretch/>
        </p:blipFill>
        <p:spPr>
          <a:xfrm>
            <a:off x="152280" y="1523880"/>
            <a:ext cx="3135600" cy="2352960"/>
          </a:xfrm>
          <a:prstGeom prst="rect">
            <a:avLst/>
          </a:prstGeom>
          <a:ln w="0">
            <a:noFill/>
          </a:ln>
        </p:spPr>
      </p:pic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Times New Roman"/>
                <a:ea typeface="굴림"/>
              </a:rPr>
              <a:t>Real-world Tenet deployment on </a:t>
            </a:r>
            <a:br>
              <a:rPr sz="3600"/>
            </a:br>
            <a:r>
              <a:rPr b="1" lang="en-US" sz="3600" spc="-1" strike="noStrike">
                <a:solidFill>
                  <a:srgbClr val="000066"/>
                </a:solidFill>
                <a:latin typeface="Times New Roman"/>
                <a:ea typeface="굴림"/>
              </a:rPr>
              <a:t>Vincent Thomas Bridge</a:t>
            </a:r>
            <a:endParaRPr b="1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171360" y="3343320"/>
            <a:ext cx="8915400" cy="1057320"/>
          </a:xfrm>
          <a:custGeom>
            <a:avLst/>
            <a:gdLst/>
            <a:ahLst/>
            <a:rect l="l" t="t" r="r" b="b"/>
            <a:pathLst>
              <a:path w="5616" h="666">
                <a:moveTo>
                  <a:pt x="0" y="666"/>
                </a:moveTo>
                <a:cubicBezTo>
                  <a:pt x="232" y="623"/>
                  <a:pt x="911" y="490"/>
                  <a:pt x="1392" y="410"/>
                </a:cubicBezTo>
                <a:cubicBezTo>
                  <a:pt x="1873" y="330"/>
                  <a:pt x="2398" y="250"/>
                  <a:pt x="2888" y="186"/>
                </a:cubicBezTo>
                <a:cubicBezTo>
                  <a:pt x="3378" y="122"/>
                  <a:pt x="3877" y="48"/>
                  <a:pt x="4332" y="24"/>
                </a:cubicBezTo>
                <a:cubicBezTo>
                  <a:pt x="4787" y="0"/>
                  <a:pt x="5349" y="38"/>
                  <a:pt x="5616" y="42"/>
                </a:cubicBezTo>
              </a:path>
            </a:pathLst>
          </a:custGeom>
          <a:noFill/>
          <a:ln w="10152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2" name=""/>
          <p:cNvGrpSpPr/>
          <p:nvPr/>
        </p:nvGrpSpPr>
        <p:grpSpPr>
          <a:xfrm>
            <a:off x="2457000" y="3257640"/>
            <a:ext cx="265680" cy="1657080"/>
            <a:chOff x="2457000" y="3257640"/>
            <a:chExt cx="265680" cy="1657080"/>
          </a:xfrm>
        </p:grpSpPr>
        <p:sp>
          <p:nvSpPr>
            <p:cNvPr id="663" name=""/>
            <p:cNvSpPr/>
            <p:nvPr/>
          </p:nvSpPr>
          <p:spPr>
            <a:xfrm rot="5400000">
              <a:off x="1771200" y="3943440"/>
              <a:ext cx="1600200" cy="228600"/>
            </a:xfrm>
            <a:prstGeom prst="parallelogram">
              <a:avLst>
                <a:gd name="adj" fmla="val 38176"/>
              </a:avLst>
            </a:prstGeom>
            <a:noFill/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 rot="5400000">
              <a:off x="2495160" y="3219480"/>
              <a:ext cx="152280" cy="228600"/>
            </a:xfrm>
            <a:prstGeom prst="parallelogram">
              <a:avLst>
                <a:gd name="adj" fmla="val 48958"/>
              </a:avLst>
            </a:prstGeom>
            <a:solidFill>
              <a:srgbClr val="808080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 rot="5400000">
              <a:off x="2495160" y="3676680"/>
              <a:ext cx="152280" cy="228600"/>
            </a:xfrm>
            <a:prstGeom prst="parallelogram">
              <a:avLst>
                <a:gd name="adj" fmla="val 48958"/>
              </a:avLst>
            </a:prstGeom>
            <a:solidFill>
              <a:srgbClr val="808080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 rot="5400000">
              <a:off x="2494800" y="4209840"/>
              <a:ext cx="152640" cy="228600"/>
            </a:xfrm>
            <a:prstGeom prst="parallelogram">
              <a:avLst>
                <a:gd name="adj" fmla="val 48958"/>
              </a:avLst>
            </a:prstGeom>
            <a:solidFill>
              <a:srgbClr val="808080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 rot="5400000">
              <a:off x="2494800" y="4438440"/>
              <a:ext cx="152640" cy="228600"/>
            </a:xfrm>
            <a:prstGeom prst="parallelogram">
              <a:avLst>
                <a:gd name="adj" fmla="val 48958"/>
              </a:avLst>
            </a:prstGeom>
            <a:solidFill>
              <a:srgbClr val="808080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 rot="5400000">
              <a:off x="1942200" y="4077360"/>
              <a:ext cx="1524240" cy="36720"/>
            </a:xfrm>
            <a:prstGeom prst="parallelogram">
              <a:avLst>
                <a:gd name="adj" fmla="val 0"/>
              </a:avLst>
            </a:prstGeom>
            <a:solidFill>
              <a:srgbClr val="dddddd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 rot="5400000">
              <a:off x="2495160" y="4724280"/>
              <a:ext cx="152280" cy="228600"/>
            </a:xfrm>
            <a:prstGeom prst="parallelogram">
              <a:avLst>
                <a:gd name="adj" fmla="val 48958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0" name=""/>
          <p:cNvGrpSpPr/>
          <p:nvPr/>
        </p:nvGrpSpPr>
        <p:grpSpPr>
          <a:xfrm>
            <a:off x="7029000" y="2647800"/>
            <a:ext cx="265680" cy="1657080"/>
            <a:chOff x="7029000" y="2647800"/>
            <a:chExt cx="265680" cy="1657080"/>
          </a:xfrm>
        </p:grpSpPr>
        <p:sp>
          <p:nvSpPr>
            <p:cNvPr id="671" name=""/>
            <p:cNvSpPr/>
            <p:nvPr/>
          </p:nvSpPr>
          <p:spPr>
            <a:xfrm rot="5400000">
              <a:off x="6343200" y="3333600"/>
              <a:ext cx="1600200" cy="228600"/>
            </a:xfrm>
            <a:prstGeom prst="parallelogram">
              <a:avLst>
                <a:gd name="adj" fmla="val 38176"/>
              </a:avLst>
            </a:prstGeom>
            <a:noFill/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 rot="5400000">
              <a:off x="7067160" y="2609640"/>
              <a:ext cx="152280" cy="228600"/>
            </a:xfrm>
            <a:prstGeom prst="parallelogram">
              <a:avLst>
                <a:gd name="adj" fmla="val 48958"/>
              </a:avLst>
            </a:prstGeom>
            <a:solidFill>
              <a:srgbClr val="808080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 rot="5400000">
              <a:off x="7067160" y="3066840"/>
              <a:ext cx="152280" cy="228600"/>
            </a:xfrm>
            <a:prstGeom prst="parallelogram">
              <a:avLst>
                <a:gd name="adj" fmla="val 48958"/>
              </a:avLst>
            </a:prstGeom>
            <a:solidFill>
              <a:srgbClr val="808080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 rot="5400000">
              <a:off x="7066800" y="3600000"/>
              <a:ext cx="152640" cy="228600"/>
            </a:xfrm>
            <a:prstGeom prst="parallelogram">
              <a:avLst>
                <a:gd name="adj" fmla="val 48958"/>
              </a:avLst>
            </a:prstGeom>
            <a:solidFill>
              <a:srgbClr val="808080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 rot="5400000">
              <a:off x="7066800" y="3828600"/>
              <a:ext cx="152640" cy="228600"/>
            </a:xfrm>
            <a:prstGeom prst="parallelogram">
              <a:avLst>
                <a:gd name="adj" fmla="val 48958"/>
              </a:avLst>
            </a:prstGeom>
            <a:solidFill>
              <a:srgbClr val="808080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 rot="5400000">
              <a:off x="6514200" y="3467520"/>
              <a:ext cx="1524240" cy="36720"/>
            </a:xfrm>
            <a:prstGeom prst="parallelogram">
              <a:avLst>
                <a:gd name="adj" fmla="val 0"/>
              </a:avLst>
            </a:prstGeom>
            <a:solidFill>
              <a:srgbClr val="dddddd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 rot="5400000">
              <a:off x="7067160" y="4114440"/>
              <a:ext cx="152280" cy="228600"/>
            </a:xfrm>
            <a:prstGeom prst="parallelogram">
              <a:avLst>
                <a:gd name="adj" fmla="val 48958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8" name=""/>
          <p:cNvGrpSpPr/>
          <p:nvPr/>
        </p:nvGrpSpPr>
        <p:grpSpPr>
          <a:xfrm>
            <a:off x="228600" y="2647800"/>
            <a:ext cx="8934480" cy="1828800"/>
            <a:chOff x="228600" y="2647800"/>
            <a:chExt cx="8934480" cy="1828800"/>
          </a:xfrm>
        </p:grpSpPr>
        <p:sp>
          <p:nvSpPr>
            <p:cNvPr id="679" name=""/>
            <p:cNvSpPr/>
            <p:nvPr/>
          </p:nvSpPr>
          <p:spPr>
            <a:xfrm>
              <a:off x="7029360" y="2647800"/>
              <a:ext cx="2133720" cy="609840"/>
            </a:xfrm>
            <a:custGeom>
              <a:avLst/>
              <a:gdLst/>
              <a:ahLst/>
              <a:rect l="l" t="t" r="r" b="b"/>
              <a:pathLst>
                <a:path w="1188" h="414">
                  <a:moveTo>
                    <a:pt x="0" y="0"/>
                  </a:moveTo>
                  <a:cubicBezTo>
                    <a:pt x="78" y="47"/>
                    <a:pt x="270" y="213"/>
                    <a:pt x="468" y="282"/>
                  </a:cubicBezTo>
                  <a:cubicBezTo>
                    <a:pt x="666" y="351"/>
                    <a:pt x="1038" y="387"/>
                    <a:pt x="1188" y="414"/>
                  </a:cubicBezTo>
                </a:path>
              </a:pathLst>
            </a:custGeom>
            <a:noFill/>
            <a:ln w="936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38320" y="3257640"/>
              <a:ext cx="2219040" cy="1181160"/>
            </a:xfrm>
            <a:custGeom>
              <a:avLst/>
              <a:gdLst/>
              <a:ahLst/>
              <a:rect l="l" t="t" r="r" b="b"/>
              <a:pathLst>
                <a:path w="1398" h="744">
                  <a:moveTo>
                    <a:pt x="1398" y="0"/>
                  </a:moveTo>
                  <a:cubicBezTo>
                    <a:pt x="1315" y="64"/>
                    <a:pt x="1054" y="283"/>
                    <a:pt x="900" y="384"/>
                  </a:cubicBezTo>
                  <a:cubicBezTo>
                    <a:pt x="746" y="485"/>
                    <a:pt x="624" y="546"/>
                    <a:pt x="474" y="606"/>
                  </a:cubicBezTo>
                  <a:cubicBezTo>
                    <a:pt x="324" y="666"/>
                    <a:pt x="99" y="715"/>
                    <a:pt x="0" y="744"/>
                  </a:cubicBezTo>
                </a:path>
              </a:pathLst>
            </a:custGeom>
            <a:noFill/>
            <a:ln w="936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228600" y="3352680"/>
              <a:ext cx="2448000" cy="1123920"/>
            </a:xfrm>
            <a:custGeom>
              <a:avLst/>
              <a:gdLst/>
              <a:ahLst/>
              <a:rect l="l" t="t" r="r" b="b"/>
              <a:pathLst>
                <a:path w="1542" h="708">
                  <a:moveTo>
                    <a:pt x="1542" y="0"/>
                  </a:moveTo>
                  <a:cubicBezTo>
                    <a:pt x="1452" y="62"/>
                    <a:pt x="1167" y="275"/>
                    <a:pt x="1002" y="372"/>
                  </a:cubicBezTo>
                  <a:cubicBezTo>
                    <a:pt x="837" y="469"/>
                    <a:pt x="719" y="526"/>
                    <a:pt x="552" y="582"/>
                  </a:cubicBezTo>
                  <a:cubicBezTo>
                    <a:pt x="385" y="638"/>
                    <a:pt x="115" y="682"/>
                    <a:pt x="0" y="708"/>
                  </a:cubicBezTo>
                </a:path>
              </a:pathLst>
            </a:custGeom>
            <a:noFill/>
            <a:ln w="936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2457360" y="2647800"/>
              <a:ext cx="4572000" cy="822600"/>
            </a:xfrm>
            <a:custGeom>
              <a:avLst/>
              <a:gdLst/>
              <a:ahLst/>
              <a:rect l="l" t="t" r="r" b="b"/>
              <a:pathLst>
                <a:path w="2880" h="518">
                  <a:moveTo>
                    <a:pt x="0" y="384"/>
                  </a:moveTo>
                  <a:cubicBezTo>
                    <a:pt x="123" y="400"/>
                    <a:pt x="479" y="462"/>
                    <a:pt x="738" y="480"/>
                  </a:cubicBezTo>
                  <a:cubicBezTo>
                    <a:pt x="997" y="498"/>
                    <a:pt x="1309" y="518"/>
                    <a:pt x="1554" y="492"/>
                  </a:cubicBezTo>
                  <a:cubicBezTo>
                    <a:pt x="1799" y="466"/>
                    <a:pt x="1987" y="406"/>
                    <a:pt x="2208" y="324"/>
                  </a:cubicBezTo>
                  <a:cubicBezTo>
                    <a:pt x="2429" y="242"/>
                    <a:pt x="2740" y="67"/>
                    <a:pt x="2880" y="0"/>
                  </a:cubicBezTo>
                </a:path>
              </a:pathLst>
            </a:custGeom>
            <a:noFill/>
            <a:ln w="936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685960" y="2724120"/>
              <a:ext cx="4572000" cy="822240"/>
            </a:xfrm>
            <a:custGeom>
              <a:avLst/>
              <a:gdLst/>
              <a:ahLst/>
              <a:rect l="l" t="t" r="r" b="b"/>
              <a:pathLst>
                <a:path w="2880" h="518">
                  <a:moveTo>
                    <a:pt x="0" y="384"/>
                  </a:moveTo>
                  <a:cubicBezTo>
                    <a:pt x="123" y="400"/>
                    <a:pt x="479" y="462"/>
                    <a:pt x="738" y="480"/>
                  </a:cubicBezTo>
                  <a:cubicBezTo>
                    <a:pt x="997" y="498"/>
                    <a:pt x="1309" y="518"/>
                    <a:pt x="1554" y="492"/>
                  </a:cubicBezTo>
                  <a:cubicBezTo>
                    <a:pt x="1799" y="466"/>
                    <a:pt x="1987" y="406"/>
                    <a:pt x="2208" y="324"/>
                  </a:cubicBezTo>
                  <a:cubicBezTo>
                    <a:pt x="2429" y="242"/>
                    <a:pt x="2740" y="67"/>
                    <a:pt x="2880" y="0"/>
                  </a:cubicBezTo>
                </a:path>
              </a:pathLst>
            </a:custGeom>
            <a:noFill/>
            <a:ln w="936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257960" y="2724120"/>
              <a:ext cx="1886040" cy="657360"/>
            </a:xfrm>
            <a:custGeom>
              <a:avLst/>
              <a:gdLst/>
              <a:ahLst/>
              <a:rect l="l" t="t" r="r" b="b"/>
              <a:pathLst>
                <a:path w="1188" h="414">
                  <a:moveTo>
                    <a:pt x="0" y="0"/>
                  </a:moveTo>
                  <a:cubicBezTo>
                    <a:pt x="103" y="48"/>
                    <a:pt x="420" y="219"/>
                    <a:pt x="618" y="288"/>
                  </a:cubicBezTo>
                  <a:cubicBezTo>
                    <a:pt x="816" y="357"/>
                    <a:pt x="1069" y="388"/>
                    <a:pt x="1188" y="414"/>
                  </a:cubicBezTo>
                </a:path>
              </a:pathLst>
            </a:custGeom>
            <a:noFill/>
            <a:ln w="936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5" name=""/>
          <p:cNvGrpSpPr/>
          <p:nvPr/>
        </p:nvGrpSpPr>
        <p:grpSpPr>
          <a:xfrm>
            <a:off x="2647800" y="2952360"/>
            <a:ext cx="2895480" cy="1219320"/>
            <a:chOff x="2647800" y="2952360"/>
            <a:chExt cx="2895480" cy="1219320"/>
          </a:xfrm>
        </p:grpSpPr>
        <p:sp>
          <p:nvSpPr>
            <p:cNvPr id="686" name=""/>
            <p:cNvSpPr/>
            <p:nvPr/>
          </p:nvSpPr>
          <p:spPr>
            <a:xfrm flipV="1">
              <a:off x="2647800" y="2952360"/>
              <a:ext cx="0" cy="12193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 flipV="1">
              <a:off x="5543280" y="2952360"/>
              <a:ext cx="0" cy="7621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647800" y="3029040"/>
              <a:ext cx="28954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headEnd len="sm" type="arrow" w="med"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3904920" y="2952720"/>
              <a:ext cx="380880" cy="101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굴림"/>
                </a:rPr>
                <a:t>570 f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0" name=""/>
          <p:cNvGrpSpPr/>
          <p:nvPr/>
        </p:nvGrpSpPr>
        <p:grpSpPr>
          <a:xfrm>
            <a:off x="4057560" y="3143160"/>
            <a:ext cx="609840" cy="571680"/>
            <a:chOff x="4057560" y="3143160"/>
            <a:chExt cx="609840" cy="571680"/>
          </a:xfrm>
        </p:grpSpPr>
        <p:sp>
          <p:nvSpPr>
            <p:cNvPr id="691" name=""/>
            <p:cNvSpPr/>
            <p:nvPr/>
          </p:nvSpPr>
          <p:spPr>
            <a:xfrm flipV="1">
              <a:off x="4667400" y="3181320"/>
              <a:ext cx="0" cy="4572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 flipV="1">
              <a:off x="4057560" y="3181320"/>
              <a:ext cx="0" cy="5335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4057560" y="3219480"/>
              <a:ext cx="6098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headEnd len="sm" type="arrow" w="med"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4172040" y="3143160"/>
              <a:ext cx="380880" cy="152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굴림"/>
                </a:rPr>
                <a:t>120 f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5" name=""/>
          <p:cNvGrpSpPr/>
          <p:nvPr/>
        </p:nvGrpSpPr>
        <p:grpSpPr>
          <a:xfrm>
            <a:off x="4565520" y="3885840"/>
            <a:ext cx="304920" cy="324360"/>
            <a:chOff x="4565520" y="3885840"/>
            <a:chExt cx="304920" cy="324360"/>
          </a:xfrm>
        </p:grpSpPr>
        <p:sp>
          <p:nvSpPr>
            <p:cNvPr id="696" name=""/>
            <p:cNvSpPr/>
            <p:nvPr/>
          </p:nvSpPr>
          <p:spPr>
            <a:xfrm flipV="1">
              <a:off x="4635360" y="3924000"/>
              <a:ext cx="0" cy="1522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 flipV="1">
              <a:off x="4788000" y="3885840"/>
              <a:ext cx="0" cy="2286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4635360" y="4025880"/>
              <a:ext cx="1526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headEnd len="sm" type="arrow" w="med"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4565520" y="4133880"/>
              <a:ext cx="304920" cy="76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굴림"/>
                </a:rPr>
                <a:t>30 f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0" name=""/>
          <p:cNvGrpSpPr/>
          <p:nvPr/>
        </p:nvGrpSpPr>
        <p:grpSpPr>
          <a:xfrm>
            <a:off x="809640" y="4400640"/>
            <a:ext cx="2028960" cy="1761840"/>
            <a:chOff x="809640" y="4400640"/>
            <a:chExt cx="2028960" cy="1761840"/>
          </a:xfrm>
        </p:grpSpPr>
        <p:sp>
          <p:nvSpPr>
            <p:cNvPr id="701" name=""/>
            <p:cNvSpPr/>
            <p:nvPr/>
          </p:nvSpPr>
          <p:spPr>
            <a:xfrm>
              <a:off x="809640" y="4400640"/>
              <a:ext cx="2028960" cy="1761840"/>
            </a:xfrm>
            <a:prstGeom prst="wedgeRectCallout">
              <a:avLst>
                <a:gd name="adj1" fmla="val 35250"/>
                <a:gd name="adj2" fmla="val -56250"/>
              </a:avLst>
            </a:prstGeom>
            <a:solidFill>
              <a:srgbClr val="c0c0c0"/>
            </a:solidFill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809640" y="4400640"/>
              <a:ext cx="2028960" cy="271440"/>
            </a:xfrm>
            <a:prstGeom prst="rect">
              <a:avLst/>
            </a:prstGeom>
            <a:solidFill>
              <a:srgbClr val="c0c0c0"/>
            </a:solidFill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  <a:ea typeface="굴림"/>
                </a:rPr>
                <a:t>Mot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03" name="" descr=""/>
            <p:cNvPicPr/>
            <p:nvPr/>
          </p:nvPicPr>
          <p:blipFill>
            <a:blip r:embed="rId2">
              <a:lum bright="20000"/>
            </a:blip>
            <a:stretch/>
          </p:blipFill>
          <p:spPr>
            <a:xfrm>
              <a:off x="816120" y="4705200"/>
              <a:ext cx="2011320" cy="1457280"/>
            </a:xfrm>
            <a:prstGeom prst="rect">
              <a:avLst/>
            </a:prstGeom>
            <a:ln w="9360">
              <a:solidFill>
                <a:srgbClr val="c0c0c0"/>
              </a:solidFill>
              <a:miter/>
            </a:ln>
          </p:spPr>
        </p:pic>
      </p:grpSp>
      <p:grpSp>
        <p:nvGrpSpPr>
          <p:cNvPr id="704" name=""/>
          <p:cNvGrpSpPr/>
          <p:nvPr/>
        </p:nvGrpSpPr>
        <p:grpSpPr>
          <a:xfrm>
            <a:off x="2610000" y="3537000"/>
            <a:ext cx="2971800" cy="692280"/>
            <a:chOff x="2610000" y="3537000"/>
            <a:chExt cx="2971800" cy="692280"/>
          </a:xfrm>
        </p:grpSpPr>
        <p:sp>
          <p:nvSpPr>
            <p:cNvPr id="705" name=""/>
            <p:cNvSpPr/>
            <p:nvPr/>
          </p:nvSpPr>
          <p:spPr>
            <a:xfrm>
              <a:off x="2610000" y="4152960"/>
              <a:ext cx="76320" cy="76320"/>
            </a:xfrm>
            <a:prstGeom prst="rect">
              <a:avLst/>
            </a:prstGeom>
            <a:solidFill>
              <a:srgbClr val="000099"/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2762280" y="4129200"/>
              <a:ext cx="76320" cy="76320"/>
            </a:xfrm>
            <a:prstGeom prst="rect">
              <a:avLst/>
            </a:prstGeom>
            <a:solidFill>
              <a:srgbClr val="000099"/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2914920" y="4100760"/>
              <a:ext cx="75960" cy="75960"/>
            </a:xfrm>
            <a:prstGeom prst="rect">
              <a:avLst/>
            </a:prstGeom>
            <a:solidFill>
              <a:srgbClr val="000099"/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3067200" y="4077000"/>
              <a:ext cx="76320" cy="75960"/>
            </a:xfrm>
            <a:prstGeom prst="rect">
              <a:avLst/>
            </a:prstGeom>
            <a:solidFill>
              <a:srgbClr val="000099"/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3219480" y="4048200"/>
              <a:ext cx="76320" cy="76320"/>
            </a:xfrm>
            <a:prstGeom prst="rect">
              <a:avLst/>
            </a:prstGeom>
            <a:solidFill>
              <a:srgbClr val="000099"/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3372120" y="4024440"/>
              <a:ext cx="75960" cy="76320"/>
            </a:xfrm>
            <a:prstGeom prst="rect">
              <a:avLst/>
            </a:prstGeom>
            <a:solidFill>
              <a:srgbClr val="000099"/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3524400" y="3991320"/>
              <a:ext cx="76320" cy="75960"/>
            </a:xfrm>
            <a:prstGeom prst="rect">
              <a:avLst/>
            </a:prstGeom>
            <a:solidFill>
              <a:srgbClr val="000099"/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3676680" y="3953160"/>
              <a:ext cx="76320" cy="75960"/>
            </a:xfrm>
            <a:prstGeom prst="rect">
              <a:avLst/>
            </a:prstGeom>
            <a:solidFill>
              <a:srgbClr val="000099"/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3829320" y="3924360"/>
              <a:ext cx="75960" cy="76320"/>
            </a:xfrm>
            <a:prstGeom prst="rect">
              <a:avLst/>
            </a:prstGeom>
            <a:solidFill>
              <a:srgbClr val="000099"/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3981600" y="3907080"/>
              <a:ext cx="76320" cy="75960"/>
            </a:xfrm>
            <a:prstGeom prst="rect">
              <a:avLst/>
            </a:prstGeom>
            <a:solidFill>
              <a:srgbClr val="000099"/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4133880" y="3878280"/>
              <a:ext cx="76320" cy="76320"/>
            </a:xfrm>
            <a:prstGeom prst="rect">
              <a:avLst/>
            </a:prstGeom>
            <a:solidFill>
              <a:srgbClr val="000099"/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4286520" y="3857760"/>
              <a:ext cx="75960" cy="76320"/>
            </a:xfrm>
            <a:prstGeom prst="rect">
              <a:avLst/>
            </a:prstGeom>
            <a:solidFill>
              <a:srgbClr val="000099"/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4438800" y="3848400"/>
              <a:ext cx="76320" cy="75960"/>
            </a:xfrm>
            <a:prstGeom prst="rect">
              <a:avLst/>
            </a:prstGeom>
            <a:solidFill>
              <a:srgbClr val="000099"/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4591080" y="3824280"/>
              <a:ext cx="76320" cy="76320"/>
            </a:xfrm>
            <a:prstGeom prst="rect">
              <a:avLst/>
            </a:prstGeom>
            <a:solidFill>
              <a:srgbClr val="000099"/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43720" y="3795840"/>
              <a:ext cx="75960" cy="76320"/>
            </a:xfrm>
            <a:prstGeom prst="rect">
              <a:avLst/>
            </a:prstGeom>
            <a:solidFill>
              <a:srgbClr val="000099"/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4896000" y="3772080"/>
              <a:ext cx="76320" cy="76320"/>
            </a:xfrm>
            <a:prstGeom prst="rect">
              <a:avLst/>
            </a:prstGeom>
            <a:solidFill>
              <a:srgbClr val="000099"/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5048280" y="3772080"/>
              <a:ext cx="76320" cy="76320"/>
            </a:xfrm>
            <a:prstGeom prst="rect">
              <a:avLst/>
            </a:prstGeom>
            <a:solidFill>
              <a:srgbClr val="000099"/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5200920" y="3748320"/>
              <a:ext cx="75960" cy="75960"/>
            </a:xfrm>
            <a:prstGeom prst="rect">
              <a:avLst/>
            </a:prstGeom>
            <a:solidFill>
              <a:srgbClr val="000099"/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5353200" y="3719520"/>
              <a:ext cx="76320" cy="76320"/>
            </a:xfrm>
            <a:prstGeom prst="rect">
              <a:avLst/>
            </a:prstGeom>
            <a:solidFill>
              <a:srgbClr val="000099"/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5505480" y="3695760"/>
              <a:ext cx="76320" cy="76320"/>
            </a:xfrm>
            <a:prstGeom prst="rect">
              <a:avLst/>
            </a:prstGeom>
            <a:solidFill>
              <a:srgbClr val="000099"/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25" name=""/>
            <p:cNvCxnSpPr>
              <a:stCxn id="705" idx="0"/>
              <a:endCxn id="726" idx="4"/>
            </p:cNvCxnSpPr>
            <p:nvPr/>
          </p:nvCxnSpPr>
          <p:spPr>
            <a:xfrm flipV="1">
              <a:off x="2647800" y="4047480"/>
              <a:ext cx="191160" cy="105480"/>
            </a:xfrm>
            <a:prstGeom prst="straightConnector1">
              <a:avLst/>
            </a:prstGeom>
            <a:ln w="9360">
              <a:solidFill>
                <a:srgbClr val="000066"/>
              </a:solidFill>
              <a:miter/>
            </a:ln>
          </p:spPr>
        </p:cxnSp>
        <p:cxnSp>
          <p:nvCxnSpPr>
            <p:cNvPr id="727" name=""/>
            <p:cNvCxnSpPr>
              <a:stCxn id="706" idx="0"/>
              <a:endCxn id="726" idx="4"/>
            </p:cNvCxnSpPr>
            <p:nvPr/>
          </p:nvCxnSpPr>
          <p:spPr>
            <a:xfrm flipV="1">
              <a:off x="2800440" y="4047840"/>
              <a:ext cx="38880" cy="81360"/>
            </a:xfrm>
            <a:prstGeom prst="straightConnector1">
              <a:avLst/>
            </a:prstGeom>
            <a:ln w="9360">
              <a:solidFill>
                <a:srgbClr val="000066"/>
              </a:solidFill>
              <a:miter/>
            </a:ln>
          </p:spPr>
        </p:cxnSp>
        <p:cxnSp>
          <p:nvCxnSpPr>
            <p:cNvPr id="728" name=""/>
            <p:cNvCxnSpPr>
              <a:stCxn id="726" idx="4"/>
              <a:endCxn id="708" idx="0"/>
            </p:cNvCxnSpPr>
            <p:nvPr/>
          </p:nvCxnSpPr>
          <p:spPr>
            <a:xfrm>
              <a:off x="2838240" y="4048200"/>
              <a:ext cx="267120" cy="29520"/>
            </a:xfrm>
            <a:prstGeom prst="straightConnector1">
              <a:avLst/>
            </a:prstGeom>
            <a:ln w="9360">
              <a:solidFill>
                <a:srgbClr val="000066"/>
              </a:solidFill>
              <a:miter/>
            </a:ln>
          </p:spPr>
        </p:cxnSp>
        <p:cxnSp>
          <p:nvCxnSpPr>
            <p:cNvPr id="729" name=""/>
            <p:cNvCxnSpPr>
              <a:stCxn id="726" idx="4"/>
              <a:endCxn id="707" idx="0"/>
            </p:cNvCxnSpPr>
            <p:nvPr/>
          </p:nvCxnSpPr>
          <p:spPr>
            <a:xfrm>
              <a:off x="2838600" y="4048200"/>
              <a:ext cx="115200" cy="53280"/>
            </a:xfrm>
            <a:prstGeom prst="straightConnector1">
              <a:avLst/>
            </a:prstGeom>
            <a:ln w="9360">
              <a:solidFill>
                <a:srgbClr val="000066"/>
              </a:solidFill>
              <a:miter/>
            </a:ln>
          </p:spPr>
        </p:cxnSp>
        <p:sp>
          <p:nvSpPr>
            <p:cNvPr id="726" name=""/>
            <p:cNvSpPr/>
            <p:nvPr/>
          </p:nvSpPr>
          <p:spPr>
            <a:xfrm>
              <a:off x="2800440" y="3962520"/>
              <a:ext cx="76320" cy="76320"/>
            </a:xfrm>
            <a:prstGeom prst="ellipse">
              <a:avLst/>
            </a:prstGeom>
            <a:gradFill rotWithShape="0">
              <a:gsLst>
                <a:gs pos="0">
                  <a:srgbClr val="4d0808"/>
                </a:gs>
                <a:gs pos="100000">
                  <a:srgbClr val="fff200"/>
                </a:gs>
              </a:gsLst>
              <a:lin ang="13500000"/>
            </a:gradFill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30" name=""/>
            <p:cNvCxnSpPr>
              <a:stCxn id="709" idx="0"/>
              <a:endCxn id="731" idx="4"/>
            </p:cNvCxnSpPr>
            <p:nvPr/>
          </p:nvCxnSpPr>
          <p:spPr>
            <a:xfrm flipV="1">
              <a:off x="3257280" y="3933360"/>
              <a:ext cx="191160" cy="114840"/>
            </a:xfrm>
            <a:prstGeom prst="straightConnector1">
              <a:avLst/>
            </a:prstGeom>
            <a:ln w="9360">
              <a:solidFill>
                <a:srgbClr val="000066"/>
              </a:solidFill>
              <a:miter/>
            </a:ln>
          </p:spPr>
        </p:cxnSp>
        <p:cxnSp>
          <p:nvCxnSpPr>
            <p:cNvPr id="732" name=""/>
            <p:cNvCxnSpPr>
              <a:stCxn id="710" idx="0"/>
              <a:endCxn id="731" idx="4"/>
            </p:cNvCxnSpPr>
            <p:nvPr/>
          </p:nvCxnSpPr>
          <p:spPr>
            <a:xfrm flipV="1">
              <a:off x="3409920" y="3933360"/>
              <a:ext cx="38520" cy="91080"/>
            </a:xfrm>
            <a:prstGeom prst="straightConnector1">
              <a:avLst/>
            </a:prstGeom>
            <a:ln w="9360">
              <a:solidFill>
                <a:srgbClr val="000066"/>
              </a:solidFill>
              <a:miter/>
            </a:ln>
          </p:spPr>
        </p:cxnSp>
        <p:cxnSp>
          <p:nvCxnSpPr>
            <p:cNvPr id="733" name=""/>
            <p:cNvCxnSpPr>
              <a:stCxn id="731" idx="4"/>
              <a:endCxn id="712" idx="0"/>
            </p:cNvCxnSpPr>
            <p:nvPr/>
          </p:nvCxnSpPr>
          <p:spPr>
            <a:xfrm>
              <a:off x="3447720" y="3933720"/>
              <a:ext cx="267120" cy="19800"/>
            </a:xfrm>
            <a:prstGeom prst="straightConnector1">
              <a:avLst/>
            </a:prstGeom>
            <a:ln w="9360">
              <a:solidFill>
                <a:srgbClr val="000066"/>
              </a:solidFill>
              <a:miter/>
            </a:ln>
          </p:spPr>
        </p:cxnSp>
        <p:cxnSp>
          <p:nvCxnSpPr>
            <p:cNvPr id="734" name=""/>
            <p:cNvCxnSpPr>
              <a:stCxn id="731" idx="4"/>
              <a:endCxn id="711" idx="0"/>
            </p:cNvCxnSpPr>
            <p:nvPr/>
          </p:nvCxnSpPr>
          <p:spPr>
            <a:xfrm>
              <a:off x="3448080" y="3933720"/>
              <a:ext cx="115200" cy="57960"/>
            </a:xfrm>
            <a:prstGeom prst="straightConnector1">
              <a:avLst/>
            </a:prstGeom>
            <a:ln w="9360">
              <a:solidFill>
                <a:srgbClr val="000066"/>
              </a:solidFill>
              <a:miter/>
            </a:ln>
          </p:spPr>
        </p:cxnSp>
        <p:sp>
          <p:nvSpPr>
            <p:cNvPr id="731" name=""/>
            <p:cNvSpPr/>
            <p:nvPr/>
          </p:nvSpPr>
          <p:spPr>
            <a:xfrm>
              <a:off x="3410280" y="3848400"/>
              <a:ext cx="75960" cy="75960"/>
            </a:xfrm>
            <a:prstGeom prst="ellipse">
              <a:avLst/>
            </a:prstGeom>
            <a:gradFill rotWithShape="0">
              <a:gsLst>
                <a:gs pos="0">
                  <a:srgbClr val="4d0808"/>
                </a:gs>
                <a:gs pos="100000">
                  <a:srgbClr val="fff200"/>
                </a:gs>
              </a:gsLst>
              <a:lin ang="13500000"/>
            </a:gradFill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35" name=""/>
            <p:cNvCxnSpPr>
              <a:stCxn id="713" idx="0"/>
              <a:endCxn id="736" idx="4"/>
            </p:cNvCxnSpPr>
            <p:nvPr/>
          </p:nvCxnSpPr>
          <p:spPr>
            <a:xfrm flipV="1">
              <a:off x="3867120" y="3823920"/>
              <a:ext cx="191160" cy="100800"/>
            </a:xfrm>
            <a:prstGeom prst="straightConnector1">
              <a:avLst/>
            </a:prstGeom>
            <a:ln w="9360">
              <a:solidFill>
                <a:srgbClr val="000066"/>
              </a:solidFill>
              <a:miter/>
            </a:ln>
          </p:spPr>
        </p:cxnSp>
        <p:cxnSp>
          <p:nvCxnSpPr>
            <p:cNvPr id="737" name=""/>
            <p:cNvCxnSpPr>
              <a:stCxn id="714" idx="0"/>
              <a:endCxn id="736" idx="4"/>
            </p:cNvCxnSpPr>
            <p:nvPr/>
          </p:nvCxnSpPr>
          <p:spPr>
            <a:xfrm flipV="1">
              <a:off x="4019760" y="3823920"/>
              <a:ext cx="38880" cy="83520"/>
            </a:xfrm>
            <a:prstGeom prst="straightConnector1">
              <a:avLst/>
            </a:prstGeom>
            <a:ln w="9360">
              <a:solidFill>
                <a:srgbClr val="000066"/>
              </a:solidFill>
              <a:miter/>
            </a:ln>
          </p:spPr>
        </p:cxnSp>
        <p:cxnSp>
          <p:nvCxnSpPr>
            <p:cNvPr id="738" name=""/>
            <p:cNvCxnSpPr>
              <a:stCxn id="736" idx="4"/>
              <a:endCxn id="716" idx="0"/>
            </p:cNvCxnSpPr>
            <p:nvPr/>
          </p:nvCxnSpPr>
          <p:spPr>
            <a:xfrm>
              <a:off x="4057560" y="3823920"/>
              <a:ext cx="267120" cy="34200"/>
            </a:xfrm>
            <a:prstGeom prst="straightConnector1">
              <a:avLst/>
            </a:prstGeom>
            <a:ln w="9360">
              <a:solidFill>
                <a:srgbClr val="000066"/>
              </a:solidFill>
              <a:miter/>
            </a:ln>
          </p:spPr>
        </p:cxnSp>
        <p:cxnSp>
          <p:nvCxnSpPr>
            <p:cNvPr id="739" name=""/>
            <p:cNvCxnSpPr>
              <a:stCxn id="736" idx="4"/>
              <a:endCxn id="715" idx="0"/>
            </p:cNvCxnSpPr>
            <p:nvPr/>
          </p:nvCxnSpPr>
          <p:spPr>
            <a:xfrm>
              <a:off x="4057560" y="3824280"/>
              <a:ext cx="114840" cy="54720"/>
            </a:xfrm>
            <a:prstGeom prst="straightConnector1">
              <a:avLst/>
            </a:prstGeom>
            <a:ln w="9360">
              <a:solidFill>
                <a:srgbClr val="000066"/>
              </a:solidFill>
              <a:miter/>
            </a:ln>
          </p:spPr>
        </p:cxnSp>
        <p:sp>
          <p:nvSpPr>
            <p:cNvPr id="736" name=""/>
            <p:cNvSpPr/>
            <p:nvPr/>
          </p:nvSpPr>
          <p:spPr>
            <a:xfrm>
              <a:off x="4019760" y="3738600"/>
              <a:ext cx="76320" cy="76320"/>
            </a:xfrm>
            <a:prstGeom prst="ellipse">
              <a:avLst/>
            </a:prstGeom>
            <a:gradFill rotWithShape="0">
              <a:gsLst>
                <a:gs pos="0">
                  <a:srgbClr val="4d0808"/>
                </a:gs>
                <a:gs pos="100000">
                  <a:srgbClr val="fff200"/>
                </a:gs>
              </a:gsLst>
              <a:lin ang="13500000"/>
            </a:gradFill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40" name=""/>
            <p:cNvCxnSpPr>
              <a:stCxn id="717" idx="0"/>
              <a:endCxn id="741" idx="4"/>
            </p:cNvCxnSpPr>
            <p:nvPr/>
          </p:nvCxnSpPr>
          <p:spPr>
            <a:xfrm flipV="1">
              <a:off x="4476960" y="3737880"/>
              <a:ext cx="186480" cy="110520"/>
            </a:xfrm>
            <a:prstGeom prst="straightConnector1">
              <a:avLst/>
            </a:prstGeom>
            <a:ln w="9360">
              <a:solidFill>
                <a:srgbClr val="000066"/>
              </a:solidFill>
              <a:miter/>
            </a:ln>
          </p:spPr>
        </p:cxnSp>
        <p:cxnSp>
          <p:nvCxnSpPr>
            <p:cNvPr id="742" name=""/>
            <p:cNvCxnSpPr>
              <a:stCxn id="718" idx="0"/>
              <a:endCxn id="741" idx="4"/>
            </p:cNvCxnSpPr>
            <p:nvPr/>
          </p:nvCxnSpPr>
          <p:spPr>
            <a:xfrm flipV="1">
              <a:off x="4628880" y="3738240"/>
              <a:ext cx="34200" cy="86400"/>
            </a:xfrm>
            <a:prstGeom prst="straightConnector1">
              <a:avLst/>
            </a:prstGeom>
            <a:ln w="9360">
              <a:solidFill>
                <a:srgbClr val="000066"/>
              </a:solidFill>
              <a:miter/>
            </a:ln>
          </p:spPr>
        </p:cxnSp>
        <p:cxnSp>
          <p:nvCxnSpPr>
            <p:cNvPr id="743" name=""/>
            <p:cNvCxnSpPr>
              <a:stCxn id="741" idx="4"/>
              <a:endCxn id="720" idx="0"/>
            </p:cNvCxnSpPr>
            <p:nvPr/>
          </p:nvCxnSpPr>
          <p:spPr>
            <a:xfrm>
              <a:off x="4662720" y="3738240"/>
              <a:ext cx="272160" cy="34200"/>
            </a:xfrm>
            <a:prstGeom prst="straightConnector1">
              <a:avLst/>
            </a:prstGeom>
            <a:ln w="9360">
              <a:solidFill>
                <a:srgbClr val="000066"/>
              </a:solidFill>
              <a:miter/>
            </a:ln>
          </p:spPr>
        </p:cxnSp>
        <p:cxnSp>
          <p:nvCxnSpPr>
            <p:cNvPr id="744" name=""/>
            <p:cNvCxnSpPr>
              <a:stCxn id="741" idx="4"/>
              <a:endCxn id="719" idx="0"/>
            </p:cNvCxnSpPr>
            <p:nvPr/>
          </p:nvCxnSpPr>
          <p:spPr>
            <a:xfrm>
              <a:off x="4662360" y="3738240"/>
              <a:ext cx="119880" cy="57960"/>
            </a:xfrm>
            <a:prstGeom prst="straightConnector1">
              <a:avLst/>
            </a:prstGeom>
            <a:ln w="9360">
              <a:solidFill>
                <a:srgbClr val="000066"/>
              </a:solidFill>
              <a:miter/>
            </a:ln>
          </p:spPr>
        </p:cxnSp>
        <p:sp>
          <p:nvSpPr>
            <p:cNvPr id="741" name=""/>
            <p:cNvSpPr/>
            <p:nvPr/>
          </p:nvSpPr>
          <p:spPr>
            <a:xfrm>
              <a:off x="4624560" y="3652920"/>
              <a:ext cx="76320" cy="76320"/>
            </a:xfrm>
            <a:prstGeom prst="ellipse">
              <a:avLst/>
            </a:prstGeom>
            <a:gradFill rotWithShape="0">
              <a:gsLst>
                <a:gs pos="0">
                  <a:srgbClr val="4d0808"/>
                </a:gs>
                <a:gs pos="100000">
                  <a:srgbClr val="fff200"/>
                </a:gs>
              </a:gsLst>
              <a:lin ang="13500000"/>
            </a:gradFill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45" name=""/>
            <p:cNvCxnSpPr>
              <a:stCxn id="721" idx="0"/>
              <a:endCxn id="746" idx="4"/>
            </p:cNvCxnSpPr>
            <p:nvPr/>
          </p:nvCxnSpPr>
          <p:spPr>
            <a:xfrm flipV="1">
              <a:off x="5086080" y="3662280"/>
              <a:ext cx="191160" cy="110160"/>
            </a:xfrm>
            <a:prstGeom prst="straightConnector1">
              <a:avLst/>
            </a:prstGeom>
            <a:ln w="9360">
              <a:solidFill>
                <a:srgbClr val="000066"/>
              </a:solidFill>
              <a:miter/>
            </a:ln>
          </p:spPr>
        </p:cxnSp>
        <p:cxnSp>
          <p:nvCxnSpPr>
            <p:cNvPr id="747" name=""/>
            <p:cNvCxnSpPr>
              <a:stCxn id="722" idx="0"/>
              <a:endCxn id="746" idx="4"/>
            </p:cNvCxnSpPr>
            <p:nvPr/>
          </p:nvCxnSpPr>
          <p:spPr>
            <a:xfrm flipV="1">
              <a:off x="5238720" y="3662280"/>
              <a:ext cx="38520" cy="86400"/>
            </a:xfrm>
            <a:prstGeom prst="straightConnector1">
              <a:avLst/>
            </a:prstGeom>
            <a:ln w="9360">
              <a:solidFill>
                <a:srgbClr val="000066"/>
              </a:solidFill>
              <a:miter/>
            </a:ln>
          </p:spPr>
        </p:cxnSp>
        <p:cxnSp>
          <p:nvCxnSpPr>
            <p:cNvPr id="748" name=""/>
            <p:cNvCxnSpPr>
              <a:stCxn id="746" idx="4"/>
              <a:endCxn id="724" idx="0"/>
            </p:cNvCxnSpPr>
            <p:nvPr/>
          </p:nvCxnSpPr>
          <p:spPr>
            <a:xfrm>
              <a:off x="5276520" y="3662640"/>
              <a:ext cx="267120" cy="33840"/>
            </a:xfrm>
            <a:prstGeom prst="straightConnector1">
              <a:avLst/>
            </a:prstGeom>
            <a:ln w="9360">
              <a:solidFill>
                <a:srgbClr val="000066"/>
              </a:solidFill>
              <a:miter/>
            </a:ln>
          </p:spPr>
        </p:cxnSp>
        <p:cxnSp>
          <p:nvCxnSpPr>
            <p:cNvPr id="749" name=""/>
            <p:cNvCxnSpPr>
              <a:stCxn id="746" idx="4"/>
              <a:endCxn id="723" idx="0"/>
            </p:cNvCxnSpPr>
            <p:nvPr/>
          </p:nvCxnSpPr>
          <p:spPr>
            <a:xfrm>
              <a:off x="5276880" y="3662640"/>
              <a:ext cx="115200" cy="57600"/>
            </a:xfrm>
            <a:prstGeom prst="straightConnector1">
              <a:avLst/>
            </a:prstGeom>
            <a:ln w="9360">
              <a:solidFill>
                <a:srgbClr val="000066"/>
              </a:solidFill>
              <a:miter/>
            </a:ln>
          </p:spPr>
        </p:cxnSp>
        <p:sp>
          <p:nvSpPr>
            <p:cNvPr id="746" name=""/>
            <p:cNvSpPr/>
            <p:nvPr/>
          </p:nvSpPr>
          <p:spPr>
            <a:xfrm>
              <a:off x="5239080" y="3576960"/>
              <a:ext cx="75960" cy="75960"/>
            </a:xfrm>
            <a:prstGeom prst="ellipse">
              <a:avLst/>
            </a:prstGeom>
            <a:gradFill rotWithShape="0">
              <a:gsLst>
                <a:gs pos="0">
                  <a:srgbClr val="4d0808"/>
                </a:gs>
                <a:gs pos="100000">
                  <a:srgbClr val="fff200"/>
                </a:gs>
              </a:gsLst>
              <a:lin ang="13500000"/>
            </a:gradFill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50" name=""/>
            <p:cNvCxnSpPr>
              <a:stCxn id="726" idx="6"/>
              <a:endCxn id="731" idx="2"/>
            </p:cNvCxnSpPr>
            <p:nvPr/>
          </p:nvCxnSpPr>
          <p:spPr>
            <a:xfrm flipV="1">
              <a:off x="2885760" y="3885840"/>
              <a:ext cx="515160" cy="115200"/>
            </a:xfrm>
            <a:prstGeom prst="straightConnector1">
              <a:avLst/>
            </a:prstGeom>
            <a:ln w="28440">
              <a:solidFill>
                <a:srgbClr val="a50021"/>
              </a:solidFill>
              <a:miter/>
            </a:ln>
          </p:spPr>
        </p:cxnSp>
        <p:cxnSp>
          <p:nvCxnSpPr>
            <p:cNvPr id="751" name=""/>
            <p:cNvCxnSpPr>
              <a:stCxn id="736" idx="2"/>
              <a:endCxn id="731" idx="6"/>
            </p:cNvCxnSpPr>
            <p:nvPr/>
          </p:nvCxnSpPr>
          <p:spPr>
            <a:xfrm flipH="1">
              <a:off x="3495960" y="3776760"/>
              <a:ext cx="514440" cy="110160"/>
            </a:xfrm>
            <a:prstGeom prst="straightConnector1">
              <a:avLst/>
            </a:prstGeom>
            <a:ln w="28440">
              <a:solidFill>
                <a:srgbClr val="a50021"/>
              </a:solidFill>
              <a:miter/>
            </a:ln>
          </p:spPr>
        </p:cxnSp>
        <p:cxnSp>
          <p:nvCxnSpPr>
            <p:cNvPr id="752" name=""/>
            <p:cNvCxnSpPr>
              <a:stCxn id="736" idx="6"/>
              <a:endCxn id="741" idx="2"/>
            </p:cNvCxnSpPr>
            <p:nvPr/>
          </p:nvCxnSpPr>
          <p:spPr>
            <a:xfrm flipV="1">
              <a:off x="4105080" y="3690720"/>
              <a:ext cx="510120" cy="86400"/>
            </a:xfrm>
            <a:prstGeom prst="straightConnector1">
              <a:avLst/>
            </a:prstGeom>
            <a:ln w="28440">
              <a:solidFill>
                <a:srgbClr val="a50021"/>
              </a:solidFill>
              <a:miter/>
            </a:ln>
          </p:spPr>
        </p:cxnSp>
        <p:cxnSp>
          <p:nvCxnSpPr>
            <p:cNvPr id="753" name=""/>
            <p:cNvCxnSpPr>
              <a:stCxn id="746" idx="2"/>
              <a:endCxn id="741" idx="6"/>
            </p:cNvCxnSpPr>
            <p:nvPr/>
          </p:nvCxnSpPr>
          <p:spPr>
            <a:xfrm flipH="1">
              <a:off x="4709880" y="3614760"/>
              <a:ext cx="519840" cy="76680"/>
            </a:xfrm>
            <a:prstGeom prst="straightConnector1">
              <a:avLst/>
            </a:prstGeom>
            <a:ln w="28440">
              <a:solidFill>
                <a:srgbClr val="a50021"/>
              </a:solidFill>
              <a:miter/>
            </a:ln>
          </p:spPr>
        </p:cxnSp>
        <p:sp>
          <p:nvSpPr>
            <p:cNvPr id="754" name=""/>
            <p:cNvSpPr/>
            <p:nvPr/>
          </p:nvSpPr>
          <p:spPr>
            <a:xfrm>
              <a:off x="2762280" y="3918240"/>
              <a:ext cx="152640" cy="158760"/>
            </a:xfrm>
            <a:prstGeom prst="ellipse">
              <a:avLst/>
            </a:prstGeom>
            <a:gradFill rotWithShape="0">
              <a:gsLst>
                <a:gs pos="0">
                  <a:srgbClr val="4d0808"/>
                </a:gs>
                <a:gs pos="100000">
                  <a:srgbClr val="fff200"/>
                </a:gs>
              </a:gsLst>
              <a:lin ang="13500000"/>
            </a:gradFill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372120" y="3810240"/>
              <a:ext cx="152280" cy="158760"/>
            </a:xfrm>
            <a:prstGeom prst="ellipse">
              <a:avLst/>
            </a:prstGeom>
            <a:gradFill rotWithShape="0">
              <a:gsLst>
                <a:gs pos="0">
                  <a:srgbClr val="4d0808"/>
                </a:gs>
                <a:gs pos="100000">
                  <a:srgbClr val="fff200"/>
                </a:gs>
              </a:gsLst>
              <a:lin ang="13500000"/>
            </a:gradFill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3981600" y="3695760"/>
              <a:ext cx="152280" cy="158760"/>
            </a:xfrm>
            <a:prstGeom prst="ellipse">
              <a:avLst/>
            </a:prstGeom>
            <a:gradFill rotWithShape="0">
              <a:gsLst>
                <a:gs pos="0">
                  <a:srgbClr val="4d0808"/>
                </a:gs>
                <a:gs pos="100000">
                  <a:srgbClr val="fff200"/>
                </a:gs>
              </a:gsLst>
              <a:lin ang="13500000"/>
            </a:gradFill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4591080" y="3613320"/>
              <a:ext cx="152640" cy="158760"/>
            </a:xfrm>
            <a:prstGeom prst="ellipse">
              <a:avLst/>
            </a:prstGeom>
            <a:gradFill rotWithShape="0">
              <a:gsLst>
                <a:gs pos="0">
                  <a:srgbClr val="4d0808"/>
                </a:gs>
                <a:gs pos="100000">
                  <a:srgbClr val="fff200"/>
                </a:gs>
              </a:gsLst>
              <a:lin ang="13500000"/>
            </a:gradFill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5200920" y="3537000"/>
              <a:ext cx="152280" cy="158760"/>
            </a:xfrm>
            <a:prstGeom prst="ellipse">
              <a:avLst/>
            </a:prstGeom>
            <a:gradFill rotWithShape="0">
              <a:gsLst>
                <a:gs pos="0">
                  <a:srgbClr val="4d0808"/>
                </a:gs>
                <a:gs pos="100000">
                  <a:srgbClr val="fff200"/>
                </a:gs>
              </a:gsLst>
              <a:lin ang="13500000"/>
            </a:gradFill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9" name=""/>
          <p:cNvGrpSpPr/>
          <p:nvPr/>
        </p:nvGrpSpPr>
        <p:grpSpPr>
          <a:xfrm>
            <a:off x="6267600" y="1876320"/>
            <a:ext cx="2057400" cy="1762200"/>
            <a:chOff x="6267600" y="1876320"/>
            <a:chExt cx="2057400" cy="1762200"/>
          </a:xfrm>
        </p:grpSpPr>
        <p:sp>
          <p:nvSpPr>
            <p:cNvPr id="760" name=""/>
            <p:cNvSpPr/>
            <p:nvPr/>
          </p:nvSpPr>
          <p:spPr>
            <a:xfrm>
              <a:off x="6296040" y="1876320"/>
              <a:ext cx="2028960" cy="1762200"/>
            </a:xfrm>
            <a:prstGeom prst="wedgeRectCallout">
              <a:avLst>
                <a:gd name="adj1" fmla="val -89046"/>
                <a:gd name="adj2" fmla="val 43694"/>
              </a:avLst>
            </a:prstGeom>
            <a:solidFill>
              <a:srgbClr val="c0c0c0"/>
            </a:solidFill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267600" y="1876320"/>
              <a:ext cx="2028600" cy="2714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a50021"/>
                  </a:solidFill>
                  <a:latin typeface="Arial"/>
                  <a:ea typeface="굴림"/>
                </a:rPr>
                <a:t>Mast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62" name="" descr=""/>
            <p:cNvPicPr/>
            <p:nvPr/>
          </p:nvPicPr>
          <p:blipFill>
            <a:blip r:embed="rId3">
              <a:lum bright="20000"/>
            </a:blip>
            <a:stretch/>
          </p:blipFill>
          <p:spPr>
            <a:xfrm>
              <a:off x="6296040" y="2147760"/>
              <a:ext cx="2028960" cy="1490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63" name=""/>
          <p:cNvSpPr/>
          <p:nvPr/>
        </p:nvSpPr>
        <p:spPr>
          <a:xfrm>
            <a:off x="3886200" y="4495680"/>
            <a:ext cx="4952880" cy="1434600"/>
          </a:xfrm>
          <a:prstGeom prst="rect">
            <a:avLst/>
          </a:prstGeom>
          <a:solidFill>
            <a:srgbClr val="cccc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굴림"/>
              </a:rPr>
              <a:t>Ran successfully for </a:t>
            </a:r>
            <a:r>
              <a:rPr b="1" lang="en-US" sz="2200" spc="-1" strike="noStrike">
                <a:solidFill>
                  <a:srgbClr val="cc3300"/>
                </a:solidFill>
                <a:latin typeface="Arial"/>
                <a:ea typeface="굴림"/>
              </a:rPr>
              <a:t>24 hou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3300"/>
                </a:solidFill>
                <a:latin typeface="Arial"/>
                <a:ea typeface="굴림"/>
              </a:rPr>
              <a:t>100%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굴림"/>
              </a:rPr>
              <a:t> reliable data delive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굴림"/>
              </a:rPr>
              <a:t>Deployment time: </a:t>
            </a:r>
            <a:r>
              <a:rPr b="1" lang="en-US" sz="2200" spc="-1" strike="noStrike">
                <a:solidFill>
                  <a:srgbClr val="cc3300"/>
                </a:solidFill>
                <a:latin typeface="Arial"/>
                <a:ea typeface="굴림"/>
              </a:rPr>
              <a:t>2.5 hou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굴림"/>
              </a:rPr>
              <a:t>Total sensor data received: </a:t>
            </a:r>
            <a:r>
              <a:rPr b="1" lang="en-US" sz="2200" spc="-1" strike="noStrike">
                <a:solidFill>
                  <a:srgbClr val="cc3300"/>
                </a:solidFill>
                <a:latin typeface="Arial"/>
                <a:ea typeface="굴림"/>
              </a:rPr>
              <a:t>860 M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0A259-81FD-45CE-A328-F76434DD2DB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8" dur="indefinite" restart="never" nodeType="tmRoot">
          <p:childTnLst>
            <p:seq>
              <p:cTn id="689" dur="indefinite" nodeType="mainSeq">
                <p:childTnLst>
                  <p:par>
                    <p:cTn id="690" fill="hold">
                      <p:stCondLst>
                        <p:cond delay="0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fill="hold">
                            <p:stCondLst>
                              <p:cond delay="1500"/>
                            </p:stCondLst>
                            <p:childTnLst>
                              <p:par>
                                <p:cTn id="6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fill="hold">
                            <p:stCondLst>
                              <p:cond delay="1500"/>
                            </p:stCondLst>
                            <p:childTnLst>
                              <p:par>
                                <p:cTn id="69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4" name="" descr=""/>
          <p:cNvPicPr/>
          <p:nvPr/>
        </p:nvPicPr>
        <p:blipFill>
          <a:blip r:embed="rId1"/>
          <a:stretch/>
        </p:blipFill>
        <p:spPr>
          <a:xfrm>
            <a:off x="2409840" y="1465200"/>
            <a:ext cx="4524480" cy="4859280"/>
          </a:xfrm>
          <a:prstGeom prst="rect">
            <a:avLst/>
          </a:prstGeom>
          <a:ln w="0">
            <a:noFill/>
          </a:ln>
        </p:spPr>
      </p:pic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Times New Roman"/>
                <a:ea typeface="굴림"/>
              </a:rPr>
              <a:t>Interesting Observations</a:t>
            </a: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766" name=""/>
          <p:cNvGrpSpPr/>
          <p:nvPr/>
        </p:nvGrpSpPr>
        <p:grpSpPr>
          <a:xfrm>
            <a:off x="116640" y="1803240"/>
            <a:ext cx="3769560" cy="4216680"/>
            <a:chOff x="116640" y="1803240"/>
            <a:chExt cx="3769560" cy="4216680"/>
          </a:xfrm>
        </p:grpSpPr>
        <p:sp>
          <p:nvSpPr>
            <p:cNvPr id="767" name=""/>
            <p:cNvSpPr/>
            <p:nvPr/>
          </p:nvSpPr>
          <p:spPr>
            <a:xfrm>
              <a:off x="2514600" y="2286000"/>
              <a:ext cx="990720" cy="9144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116640" y="1803240"/>
              <a:ext cx="3106800" cy="1008720"/>
            </a:xfrm>
            <a:prstGeom prst="rect">
              <a:avLst/>
            </a:prstGeom>
            <a:solidFill>
              <a:srgbClr val="ccccff"/>
            </a:solidFill>
            <a:ln w="324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굴림"/>
                </a:rPr>
                <a:t>Fundamental mod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굴림"/>
                </a:rPr>
                <a:t>agrees with previousl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굴림"/>
                </a:rPr>
                <a:t>published measure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276720" y="1981080"/>
              <a:ext cx="609480" cy="403884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0" name=""/>
          <p:cNvGrpSpPr/>
          <p:nvPr/>
        </p:nvGrpSpPr>
        <p:grpSpPr>
          <a:xfrm>
            <a:off x="2666880" y="5029200"/>
            <a:ext cx="6341400" cy="754560"/>
            <a:chOff x="2666880" y="5029200"/>
            <a:chExt cx="6341400" cy="754560"/>
          </a:xfrm>
        </p:grpSpPr>
        <p:sp>
          <p:nvSpPr>
            <p:cNvPr id="771" name=""/>
            <p:cNvSpPr/>
            <p:nvPr/>
          </p:nvSpPr>
          <p:spPr>
            <a:xfrm flipH="1" flipV="1">
              <a:off x="6476760" y="5257800"/>
              <a:ext cx="763560" cy="355680"/>
            </a:xfrm>
            <a:prstGeom prst="line">
              <a:avLst/>
            </a:prstGeom>
            <a:ln w="38160">
              <a:solidFill>
                <a:srgbClr val="66ff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7087320" y="5384880"/>
              <a:ext cx="1920960" cy="3988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굴림"/>
                </a:rPr>
                <a:t>Faulty sensor!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2666880" y="5029200"/>
              <a:ext cx="4343400" cy="380880"/>
            </a:xfrm>
            <a:prstGeom prst="ellipse">
              <a:avLst/>
            </a:prstGeom>
            <a:noFill/>
            <a:ln w="5724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4" name=""/>
          <p:cNvGrpSpPr/>
          <p:nvPr/>
        </p:nvGrpSpPr>
        <p:grpSpPr>
          <a:xfrm>
            <a:off x="4267080" y="1879560"/>
            <a:ext cx="4753800" cy="4292640"/>
            <a:chOff x="4267080" y="1879560"/>
            <a:chExt cx="4753800" cy="4292640"/>
          </a:xfrm>
        </p:grpSpPr>
        <p:sp>
          <p:nvSpPr>
            <p:cNvPr id="775" name=""/>
            <p:cNvSpPr/>
            <p:nvPr/>
          </p:nvSpPr>
          <p:spPr>
            <a:xfrm flipH="1">
              <a:off x="4572000" y="2266920"/>
              <a:ext cx="2255760" cy="5526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 flipH="1">
              <a:off x="5638680" y="2286000"/>
              <a:ext cx="1184400" cy="10666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6633360" y="1879560"/>
              <a:ext cx="2387520" cy="7038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굴림"/>
                </a:rPr>
                <a:t>Consistent mod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굴림"/>
                </a:rPr>
                <a:t>across senso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4267080" y="1981080"/>
              <a:ext cx="304920" cy="4191120"/>
            </a:xfrm>
            <a:prstGeom prst="ellipse">
              <a:avLst/>
            </a:prstGeom>
            <a:noFill/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5334120" y="1981080"/>
              <a:ext cx="533160" cy="4191120"/>
            </a:xfrm>
            <a:prstGeom prst="ellipse">
              <a:avLst/>
            </a:prstGeom>
            <a:noFill/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6019920" y="1981080"/>
              <a:ext cx="533160" cy="4191120"/>
            </a:xfrm>
            <a:prstGeom prst="ellipse">
              <a:avLst/>
            </a:prstGeom>
            <a:noFill/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 flipH="1">
              <a:off x="6324480" y="2438280"/>
              <a:ext cx="650880" cy="11430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979F3-8BAB-42F9-AFF9-2FEE9D046BC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0" dur="10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10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2" dur="10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7" dur="10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10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9" dur="10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20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Times New Roman"/>
                <a:ea typeface="굴림"/>
              </a:rPr>
              <a:t>Related Work</a:t>
            </a: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Archite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SN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 [Culler,`05], [Polastre,`05], Internet [Saltzer, `84],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Virtual Mach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Mat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 [Levis,`02],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Tasking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VanGo [Greenstein,`06], SNACK [Greenstein,`04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Task Dissem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Deluge [Hui,`04], Trickle [Levis,`04],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Reliable Trans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RMST [Stann,`03], Wisden [Xu,`04],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Rou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ESS [Guy,`06], Centroute [Stathopoulos,`05],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E1BDD-B601-428B-832F-0CFAB7B4E3F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5" dur="indefinite" restart="never" nodeType="tmRoot">
          <p:childTnLst>
            <p:seq>
              <p:cTn id="726" dur="indefinite" nodeType="mainSeq">
                <p:childTnLst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500"/>
                                        <p:tgtEl>
                                          <p:spTgt spid="7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4" dur="500"/>
                                        <p:tgtEl>
                                          <p:spTgt spid="7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9" dur="500"/>
                                        <p:tgtEl>
                                          <p:spTgt spid="7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2" dur="500"/>
                                        <p:tgtEl>
                                          <p:spTgt spid="7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3" fill="hold">
                            <p:stCondLst>
                              <p:cond delay="500"/>
                            </p:stCondLst>
                            <p:childTnLst>
                              <p:par>
                                <p:cTn id="7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500"/>
                                        <p:tgtEl>
                                          <p:spTgt spid="7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9" dur="500"/>
                                        <p:tgtEl>
                                          <p:spTgt spid="7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0" fill="hold">
                            <p:stCondLst>
                              <p:cond delay="1000"/>
                            </p:stCondLst>
                            <p:childTnLst>
                              <p:par>
                                <p:cTn id="7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3" dur="500"/>
                                        <p:tgtEl>
                                          <p:spTgt spid="7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500"/>
                                        <p:tgtEl>
                                          <p:spTgt spid="7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7" fill="hold">
                            <p:stCondLst>
                              <p:cond delay="1500"/>
                            </p:stCondLst>
                            <p:childTnLst>
                              <p:par>
                                <p:cTn id="7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0" dur="500"/>
                                        <p:tgtEl>
                                          <p:spTgt spid="7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3" dur="500"/>
                                        <p:tgtEl>
                                          <p:spTgt spid="7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Times New Roman"/>
                <a:ea typeface="굴림"/>
              </a:rPr>
              <a:t>Conclusion</a:t>
            </a: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785" name="" descr=""/>
          <p:cNvPicPr/>
          <p:nvPr/>
        </p:nvPicPr>
        <p:blipFill>
          <a:blip r:embed="rId1"/>
          <a:stretch/>
        </p:blipFill>
        <p:spPr>
          <a:xfrm>
            <a:off x="1857240" y="2527200"/>
            <a:ext cx="5256360" cy="2935440"/>
          </a:xfrm>
          <a:prstGeom prst="rect">
            <a:avLst/>
          </a:prstGeom>
          <a:ln w="0">
            <a:noFill/>
          </a:ln>
        </p:spPr>
      </p:pic>
      <p:sp>
        <p:nvSpPr>
          <p:cNvPr id="786" name=""/>
          <p:cNvSpPr/>
          <p:nvPr/>
        </p:nvSpPr>
        <p:spPr>
          <a:xfrm rot="2632200">
            <a:off x="2997360" y="2666880"/>
            <a:ext cx="1346040" cy="457200"/>
          </a:xfrm>
          <a:custGeom>
            <a:avLst/>
            <a:gdLst>
              <a:gd name="textAreaLeft" fmla="*/ 168120 w 1346040"/>
              <a:gd name="textAreaRight" fmla="*/ 1177920 w 134604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99cc"/>
          </a:solidFill>
          <a:ln w="936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1676520" y="2033640"/>
            <a:ext cx="2514600" cy="480960"/>
          </a:xfrm>
          <a:prstGeom prst="rect">
            <a:avLst/>
          </a:prstGeom>
          <a:solidFill>
            <a:srgbClr val="ff99cc"/>
          </a:solidFill>
          <a:ln w="2844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609480" y="2033640"/>
            <a:ext cx="4572000" cy="480960"/>
          </a:xfrm>
          <a:prstGeom prst="rect">
            <a:avLst/>
          </a:prstGeom>
          <a:solidFill>
            <a:srgbClr val="ff99cc"/>
          </a:solidFill>
          <a:ln w="2844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Simplifies application develo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 rot="12774000">
            <a:off x="5181120" y="4242960"/>
            <a:ext cx="1295640" cy="457200"/>
          </a:xfrm>
          <a:custGeom>
            <a:avLst/>
            <a:gdLst>
              <a:gd name="textAreaLeft" fmla="*/ 162000 w 1295640"/>
              <a:gd name="textAreaRight" fmla="*/ 1134000 w 129564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6095880" y="4800600"/>
            <a:ext cx="2743200" cy="480960"/>
          </a:xfrm>
          <a:prstGeom prst="rect">
            <a:avLst/>
          </a:prstGeom>
          <a:solidFill>
            <a:srgbClr val="00cc99"/>
          </a:solidFill>
          <a:ln w="2844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Networking Sub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5562720" y="4800600"/>
            <a:ext cx="3504960" cy="480960"/>
          </a:xfrm>
          <a:prstGeom prst="rect">
            <a:avLst/>
          </a:prstGeom>
          <a:solidFill>
            <a:srgbClr val="00cc99"/>
          </a:solidFill>
          <a:ln w="2844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Robust and scalable net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 rot="19869600">
            <a:off x="2506680" y="4853160"/>
            <a:ext cx="1371600" cy="457200"/>
          </a:xfrm>
          <a:custGeom>
            <a:avLst/>
            <a:gdLst>
              <a:gd name="textAreaLeft" fmla="*/ 171360 w 1371600"/>
              <a:gd name="textAreaRight" fmla="*/ 1200240 w 137160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533520" y="5386320"/>
            <a:ext cx="2514600" cy="480960"/>
          </a:xfrm>
          <a:prstGeom prst="rect">
            <a:avLst/>
          </a:prstGeom>
          <a:solidFill>
            <a:srgbClr val="ffcc66"/>
          </a:solidFill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Tasking Sub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76320" y="5386320"/>
            <a:ext cx="3429000" cy="480960"/>
          </a:xfrm>
          <a:prstGeom prst="rect">
            <a:avLst/>
          </a:prstGeom>
          <a:solidFill>
            <a:srgbClr val="ffcc66"/>
          </a:solidFill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Re-usable generic mote t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1981080" y="3533760"/>
            <a:ext cx="4876920" cy="480960"/>
          </a:xfrm>
          <a:prstGeom prst="rect">
            <a:avLst/>
          </a:prstGeom>
          <a:solidFill>
            <a:srgbClr val="9999ff"/>
          </a:solidFill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굴림"/>
              </a:rPr>
              <a:t>Simple, generic and re-usable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86954-525B-4BAC-8896-85EA7FC77343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4" dur="indefinite" restart="never" nodeType="tmRoot">
          <p:childTnLst>
            <p:seq>
              <p:cTn id="765" dur="indefinite" nodeType="mainSeq">
                <p:childTnLst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55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0" dur="10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10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2" dur="10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55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9" dur="10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10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1" dur="10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8" dur="10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0" dur="10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55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3" dur="10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10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5" dur="10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Times New Roman"/>
                <a:ea typeface="굴림"/>
              </a:rPr>
              <a:t>Software Available Soon…</a:t>
            </a: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Master t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Cygwi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Linux Fedora Cor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Starg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Mote t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Telos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Mica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4944960" y="2362320"/>
            <a:ext cx="363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ea typeface="굴림"/>
                <a:hlinkClick r:id="rId1"/>
              </a:rPr>
              <a:t>http://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ea typeface="굴림"/>
                <a:hlinkClick r:id="rId2"/>
              </a:rPr>
              <a:t>tenet.usc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5336640" y="4448160"/>
            <a:ext cx="2706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굴림"/>
              </a:rPr>
              <a:t>Thank you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FA00C-AC18-435D-AD4C-E38FBD07A817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Times New Roman"/>
                <a:ea typeface="굴림"/>
              </a:rPr>
              <a:t>An Aggressive Position</a:t>
            </a: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굴림"/>
              </a:rPr>
              <a:t>Why not design systems without sensor data fusion on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굴림"/>
              </a:rPr>
              <a:t>mot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굴림"/>
              </a:rPr>
              <a:t>A more aggressive position: Why not design an </a:t>
            </a:r>
            <a:r>
              <a:rPr b="0" i="1" lang="en-US" sz="2800" spc="-1" strike="noStrike">
                <a:solidFill>
                  <a:srgbClr val="cc0000"/>
                </a:solidFill>
                <a:latin typeface="Times New Roman"/>
                <a:ea typeface="굴림"/>
              </a:rPr>
              <a:t>architecture</a:t>
            </a:r>
            <a:r>
              <a:rPr b="0" lang="en-US" sz="2800" spc="-1" strike="noStrike">
                <a:solidFill>
                  <a:srgbClr val="cc0000"/>
                </a:solidFill>
                <a:latin typeface="Times New Roman"/>
                <a:ea typeface="굴림"/>
              </a:rPr>
              <a:t> that prohibi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굴림"/>
              </a:rPr>
              <a:t> collaborative data fusion on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굴림"/>
              </a:rPr>
              <a:t>mot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굴림"/>
              </a:rPr>
              <a:t>Ques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How do we design this architectu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Will such an architecture perform wel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6629400" y="4162320"/>
            <a:ext cx="2209680" cy="2390760"/>
            <a:chOff x="6629400" y="4162320"/>
            <a:chExt cx="2209680" cy="2390760"/>
          </a:xfrm>
        </p:grpSpPr>
        <p:pic>
          <p:nvPicPr>
            <p:cNvPr id="93" name="" descr=""/>
            <p:cNvPicPr/>
            <p:nvPr/>
          </p:nvPicPr>
          <p:blipFill>
            <a:blip r:embed="rId1"/>
            <a:stretch/>
          </p:blipFill>
          <p:spPr>
            <a:xfrm>
              <a:off x="6838920" y="4162320"/>
              <a:ext cx="2000160" cy="239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6629400" y="5181480"/>
              <a:ext cx="2133720" cy="871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ffff"/>
                  </a:solidFill>
                  <a:latin typeface="Arial"/>
                  <a:ea typeface="굴림"/>
                </a:rPr>
                <a:t>No more on-mote collaborative fusion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89BA2-7E6D-4D64-A84F-B625FD5A2CB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Times New Roman"/>
                <a:ea typeface="굴림"/>
              </a:rPr>
              <a:t>Tiered Sensor Networks</a:t>
            </a: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4775040" cy="266688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5638680" y="4267080"/>
            <a:ext cx="304812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Mo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Low-power, short-range radi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Contain sensing and actu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638680" y="1460520"/>
            <a:ext cx="3200400" cy="11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Mas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32-bit CPUs (e.g. PC, Stargat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Higher-bandwidth radi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Larger batteries or powe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638680" y="4632480"/>
            <a:ext cx="3276720" cy="70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Enable flexible deployment of dense instrum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638680" y="1828800"/>
            <a:ext cx="33530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Provide greater network capacity, larger spatial rea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57200" y="4876920"/>
            <a:ext cx="5105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Many real-world sensor network deployments are tie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80880" y="1676520"/>
            <a:ext cx="5257800" cy="2133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4572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Real world deployments at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9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Great Duck Island (UCB, [Szewczyk,`04]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9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James Reserve (UCLA, [Guy,`06]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9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Exscal project (OSU, [Arora,`05]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9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" y="2971800"/>
            <a:ext cx="5181480" cy="825480"/>
          </a:xfrm>
          <a:prstGeom prst="rect">
            <a:avLst/>
          </a:prstGeom>
          <a:solidFill>
            <a:srgbClr val="cccc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Future large-scale sensor network deployments will be tie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5715000" y="2590920"/>
            <a:ext cx="2114640" cy="1562040"/>
            <a:chOff x="5715000" y="2590920"/>
            <a:chExt cx="2114640" cy="1562040"/>
          </a:xfrm>
        </p:grpSpPr>
        <p:sp>
          <p:nvSpPr>
            <p:cNvPr id="105" name=""/>
            <p:cNvSpPr/>
            <p:nvPr/>
          </p:nvSpPr>
          <p:spPr>
            <a:xfrm>
              <a:off x="5715000" y="2590920"/>
              <a:ext cx="2114640" cy="15620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6" name="" descr=""/>
            <p:cNvPicPr/>
            <p:nvPr/>
          </p:nvPicPr>
          <p:blipFill>
            <a:blip r:embed="rId2"/>
            <a:stretch/>
          </p:blipFill>
          <p:spPr>
            <a:xfrm>
              <a:off x="5756400" y="2627280"/>
              <a:ext cx="2028600" cy="1490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805AB-81CF-4642-9957-220FDE84581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indefinite"/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866880" y="2176560"/>
            <a:ext cx="7372080" cy="2286000"/>
          </a:xfrm>
          <a:prstGeom prst="rect">
            <a:avLst/>
          </a:prstGeom>
          <a:solidFill>
            <a:srgbClr val="c0c0c0"/>
          </a:solidFill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Times New Roman"/>
                <a:ea typeface="굴림"/>
              </a:rPr>
              <a:t>Tenet Principle</a:t>
            </a: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004760" y="2263680"/>
            <a:ext cx="7105680" cy="2117880"/>
          </a:xfrm>
          <a:prstGeom prst="rect">
            <a:avLst/>
          </a:prstGeom>
          <a:solidFill>
            <a:srgbClr val="ffffff"/>
          </a:solidFill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ctr" anchorCtr="1">
            <a:spAutoFit/>
          </a:bodyPr>
          <a:p>
            <a:pPr>
              <a:lnSpc>
                <a:spcPct val="11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cc0000"/>
                </a:solidFill>
                <a:latin typeface="Arial"/>
                <a:ea typeface="굴림"/>
              </a:rPr>
              <a:t>Multi-node data fusion functionality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굴림"/>
              </a:rPr>
              <a:t> and multi-node application logic should be</a:t>
            </a:r>
            <a:r>
              <a:rPr b="0" i="1" lang="en-US" sz="2200" spc="-1" strike="noStrike">
                <a:solidFill>
                  <a:srgbClr val="cc0000"/>
                </a:solidFill>
                <a:latin typeface="Arial"/>
                <a:ea typeface="굴림"/>
              </a:rPr>
              <a:t> implemented only in the master tier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굴림"/>
              </a:rPr>
              <a:t>. The cost and complexity of implementing this functionality in a fully distributed fashion on motes outweighs the performance benefits of doing s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168560" y="4951800"/>
            <a:ext cx="67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Aggressively use tiering to simplify system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1CC69-455C-4F78-BFF5-93C2E9E99E2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4876920" y="4724280"/>
            <a:ext cx="3809880" cy="533520"/>
          </a:xfrm>
          <a:prstGeom prst="rect">
            <a:avLst/>
          </a:prstGeom>
          <a:solidFill>
            <a:srgbClr val="ffffff"/>
          </a:solidFill>
          <a:ln w="7632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and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굴림"/>
              </a:rPr>
              <a:t>may return respon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Times New Roman"/>
                <a:ea typeface="굴림"/>
              </a:rPr>
              <a:t>Tenet Architecture</a:t>
            </a: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28600" y="2514600"/>
            <a:ext cx="4495680" cy="26719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8150400">
            <a:off x="742680" y="3408480"/>
            <a:ext cx="990360" cy="630000"/>
          </a:xfrm>
          <a:custGeom>
            <a:avLst/>
            <a:gdLst>
              <a:gd name="textAreaLeft" fmla="*/ 154800 w 990360"/>
              <a:gd name="textAreaRight" fmla="*/ 866880 w 990360"/>
              <a:gd name="textAreaTop" fmla="*/ 157320 h 630000"/>
              <a:gd name="textAreaBottom" fmla="*/ 472680 h 630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00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rot="2179800">
            <a:off x="3104640" y="3352320"/>
            <a:ext cx="1067040" cy="611280"/>
          </a:xfrm>
          <a:custGeom>
            <a:avLst/>
            <a:gdLst>
              <a:gd name="textAreaLeft" fmla="*/ 166680 w 1067040"/>
              <a:gd name="textAreaRight" fmla="*/ 933840 w 1067040"/>
              <a:gd name="textAreaTop" fmla="*/ 152640 h 611280"/>
              <a:gd name="textAreaBottom" fmla="*/ 458640 h 611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00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876920" y="3657600"/>
            <a:ext cx="3809880" cy="533520"/>
          </a:xfrm>
          <a:prstGeom prst="rect">
            <a:avLst/>
          </a:prstGeom>
          <a:solidFill>
            <a:srgbClr val="ffffff"/>
          </a:solidFill>
          <a:ln w="7632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Motes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굴림"/>
              </a:rPr>
              <a:t>process data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굴림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rot="7100400">
            <a:off x="1379880" y="3837600"/>
            <a:ext cx="990720" cy="630000"/>
          </a:xfrm>
          <a:custGeom>
            <a:avLst/>
            <a:gdLst>
              <a:gd name="textAreaLeft" fmla="*/ 154800 w 990720"/>
              <a:gd name="textAreaRight" fmla="*/ 866880 w 990720"/>
              <a:gd name="textAreaTop" fmla="*/ 157320 h 630000"/>
              <a:gd name="textAreaBottom" fmla="*/ 472680 h 630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00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rot="2878800">
            <a:off x="2570760" y="3809160"/>
            <a:ext cx="914400" cy="610920"/>
          </a:xfrm>
          <a:custGeom>
            <a:avLst/>
            <a:gdLst>
              <a:gd name="textAreaLeft" fmla="*/ 142920 w 914400"/>
              <a:gd name="textAreaRight" fmla="*/ 800280 w 914400"/>
              <a:gd name="textAreaTop" fmla="*/ 152640 h 610920"/>
              <a:gd name="textAreaBottom" fmla="*/ 458280 h 610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00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rot="16598400">
            <a:off x="2100240" y="4135320"/>
            <a:ext cx="984240" cy="193680"/>
          </a:xfrm>
          <a:custGeom>
            <a:avLst/>
            <a:gdLst>
              <a:gd name="textAreaLeft" fmla="*/ 122760 w 984240"/>
              <a:gd name="textAreaRight" fmla="*/ 861480 w 984240"/>
              <a:gd name="textAreaTop" fmla="*/ 48240 h 193680"/>
              <a:gd name="textAreaBottom" fmla="*/ 145440 h 1936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rot="15874200">
            <a:off x="1795320" y="4128840"/>
            <a:ext cx="984240" cy="193680"/>
          </a:xfrm>
          <a:custGeom>
            <a:avLst/>
            <a:gdLst>
              <a:gd name="textAreaLeft" fmla="*/ 122760 w 984240"/>
              <a:gd name="textAreaRight" fmla="*/ 861480 w 984240"/>
              <a:gd name="textAreaTop" fmla="*/ 48240 h 193680"/>
              <a:gd name="textAreaBottom" fmla="*/ 145440 h 1936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17218200">
            <a:off x="1490760" y="4129200"/>
            <a:ext cx="984240" cy="193680"/>
          </a:xfrm>
          <a:custGeom>
            <a:avLst/>
            <a:gdLst>
              <a:gd name="textAreaLeft" fmla="*/ 122760 w 984240"/>
              <a:gd name="textAreaRight" fmla="*/ 861480 w 984240"/>
              <a:gd name="textAreaTop" fmla="*/ 48240 h 193680"/>
              <a:gd name="textAreaBottom" fmla="*/ 145440 h 1936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rot="18566400">
            <a:off x="1185840" y="3976560"/>
            <a:ext cx="984240" cy="193680"/>
          </a:xfrm>
          <a:custGeom>
            <a:avLst/>
            <a:gdLst>
              <a:gd name="textAreaLeft" fmla="*/ 122760 w 984240"/>
              <a:gd name="textAreaRight" fmla="*/ 861480 w 984240"/>
              <a:gd name="textAreaTop" fmla="*/ 48240 h 193680"/>
              <a:gd name="textAreaBottom" fmla="*/ 145440 h 1936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18747000">
            <a:off x="839880" y="3830400"/>
            <a:ext cx="984240" cy="193680"/>
          </a:xfrm>
          <a:custGeom>
            <a:avLst/>
            <a:gdLst>
              <a:gd name="textAreaLeft" fmla="*/ 122760 w 984240"/>
              <a:gd name="textAreaRight" fmla="*/ 861480 w 984240"/>
              <a:gd name="textAreaTop" fmla="*/ 48240 h 193680"/>
              <a:gd name="textAreaBottom" fmla="*/ 145440 h 1936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rot="19530600">
            <a:off x="596880" y="3657240"/>
            <a:ext cx="984240" cy="193680"/>
          </a:xfrm>
          <a:custGeom>
            <a:avLst/>
            <a:gdLst>
              <a:gd name="textAreaLeft" fmla="*/ 122760 w 984240"/>
              <a:gd name="textAreaRight" fmla="*/ 861480 w 984240"/>
              <a:gd name="textAreaTop" fmla="*/ 48240 h 193680"/>
              <a:gd name="textAreaBottom" fmla="*/ 145440 h 1936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rot="20154000">
            <a:off x="437760" y="3429000"/>
            <a:ext cx="984240" cy="193680"/>
          </a:xfrm>
          <a:custGeom>
            <a:avLst/>
            <a:gdLst>
              <a:gd name="textAreaLeft" fmla="*/ 122760 w 984240"/>
              <a:gd name="textAreaRight" fmla="*/ 861480 w 984240"/>
              <a:gd name="textAreaTop" fmla="*/ 48240 h 193680"/>
              <a:gd name="textAreaBottom" fmla="*/ 145440 h 1936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rot="14354400">
            <a:off x="3183120" y="3823920"/>
            <a:ext cx="984240" cy="193680"/>
          </a:xfrm>
          <a:custGeom>
            <a:avLst/>
            <a:gdLst>
              <a:gd name="textAreaLeft" fmla="*/ 122760 w 984240"/>
              <a:gd name="textAreaRight" fmla="*/ 861480 w 984240"/>
              <a:gd name="textAreaTop" fmla="*/ 48240 h 193680"/>
              <a:gd name="textAreaBottom" fmla="*/ 145440 h 1936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rot="12517800">
            <a:off x="3416400" y="3539880"/>
            <a:ext cx="984240" cy="193680"/>
          </a:xfrm>
          <a:custGeom>
            <a:avLst/>
            <a:gdLst>
              <a:gd name="textAreaLeft" fmla="*/ 122760 w 984240"/>
              <a:gd name="textAreaRight" fmla="*/ 861480 w 984240"/>
              <a:gd name="textAreaTop" fmla="*/ 48240 h 193680"/>
              <a:gd name="textAreaBottom" fmla="*/ 145440 h 1936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rot="13419600">
            <a:off x="2786760" y="3976200"/>
            <a:ext cx="984600" cy="193680"/>
          </a:xfrm>
          <a:custGeom>
            <a:avLst/>
            <a:gdLst>
              <a:gd name="textAreaLeft" fmla="*/ 123120 w 984600"/>
              <a:gd name="textAreaRight" fmla="*/ 861840 w 984600"/>
              <a:gd name="textAreaTop" fmla="*/ 48240 h 193680"/>
              <a:gd name="textAreaBottom" fmla="*/ 145440 h 1936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rot="15264600">
            <a:off x="2462040" y="4135320"/>
            <a:ext cx="984240" cy="193320"/>
          </a:xfrm>
          <a:custGeom>
            <a:avLst/>
            <a:gdLst>
              <a:gd name="textAreaLeft" fmla="*/ 122760 w 984240"/>
              <a:gd name="textAreaRight" fmla="*/ 861480 w 984240"/>
              <a:gd name="textAreaTop" fmla="*/ 48240 h 193320"/>
              <a:gd name="textAreaBottom" fmla="*/ 145080 h 1933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4114800" y="5486400"/>
            <a:ext cx="4952880" cy="609480"/>
            <a:chOff x="4114800" y="5486400"/>
            <a:chExt cx="4952880" cy="609480"/>
          </a:xfrm>
        </p:grpSpPr>
        <p:sp>
          <p:nvSpPr>
            <p:cNvPr id="131" name=""/>
            <p:cNvSpPr/>
            <p:nvPr/>
          </p:nvSpPr>
          <p:spPr>
            <a:xfrm>
              <a:off x="4114800" y="5486400"/>
              <a:ext cx="4952880" cy="609480"/>
            </a:xfrm>
            <a:prstGeom prst="ellipse">
              <a:avLst/>
            </a:prstGeom>
            <a:solidFill>
              <a:srgbClr val="ccccff"/>
            </a:solidFill>
            <a:ln w="7632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216320" y="5585400"/>
              <a:ext cx="4740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굴림"/>
                </a:rPr>
                <a:t>No multi-node fusion at the mote ti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4800600" y="1523880"/>
            <a:ext cx="3885840" cy="609840"/>
            <a:chOff x="4800600" y="1523880"/>
            <a:chExt cx="3885840" cy="609840"/>
          </a:xfrm>
        </p:grpSpPr>
        <p:sp>
          <p:nvSpPr>
            <p:cNvPr id="134" name=""/>
            <p:cNvSpPr/>
            <p:nvPr/>
          </p:nvSpPr>
          <p:spPr>
            <a:xfrm>
              <a:off x="4800600" y="1523880"/>
              <a:ext cx="3885840" cy="609840"/>
            </a:xfrm>
            <a:prstGeom prst="ellipse">
              <a:avLst/>
            </a:prstGeom>
            <a:solidFill>
              <a:srgbClr val="ccccff"/>
            </a:solidFill>
            <a:ln w="7632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928760" y="1610280"/>
              <a:ext cx="366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굴림"/>
                </a:rPr>
                <a:t>Masters control mot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109440" y="4114800"/>
            <a:ext cx="4572000" cy="1143000"/>
            <a:chOff x="109440" y="4114800"/>
            <a:chExt cx="4572000" cy="1143000"/>
          </a:xfrm>
        </p:grpSpPr>
        <p:sp>
          <p:nvSpPr>
            <p:cNvPr id="137" name=""/>
            <p:cNvSpPr/>
            <p:nvPr/>
          </p:nvSpPr>
          <p:spPr>
            <a:xfrm>
              <a:off x="4224240" y="4114800"/>
              <a:ext cx="457200" cy="380880"/>
            </a:xfrm>
            <a:prstGeom prst="flowChartMultidocumen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462480" y="4648320"/>
              <a:ext cx="457200" cy="380880"/>
            </a:xfrm>
            <a:prstGeom prst="flowChartMultidocumen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471760" y="4876920"/>
              <a:ext cx="457200" cy="380880"/>
            </a:xfrm>
            <a:prstGeom prst="flowChartMultidocumen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481040" y="4800600"/>
              <a:ext cx="457200" cy="380880"/>
            </a:xfrm>
            <a:prstGeom prst="flowChartMultidocumen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19280" y="4495680"/>
              <a:ext cx="457200" cy="381240"/>
            </a:xfrm>
            <a:prstGeom prst="flowChartMultidocumen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09440" y="4114800"/>
              <a:ext cx="457200" cy="380880"/>
            </a:xfrm>
            <a:prstGeom prst="flowChartMultidocumen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6324480" y="4191120"/>
            <a:ext cx="762120" cy="5331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808080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324480" y="3124080"/>
            <a:ext cx="762120" cy="5335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808080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876920" y="2362320"/>
            <a:ext cx="3809880" cy="703800"/>
          </a:xfrm>
          <a:prstGeom prst="rect">
            <a:avLst/>
          </a:prstGeom>
          <a:solidFill>
            <a:srgbClr val="ffffff"/>
          </a:solidFill>
          <a:ln w="7632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Applications run on masters, and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굴림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굴림"/>
              </a:rPr>
              <a:t>masters task mo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AC2D0-E404-4BCF-8832-5A2CEFA22E6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Times New Roman"/>
                <a:ea typeface="굴림"/>
              </a:rPr>
              <a:t>What do we gain ?</a:t>
            </a: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굴림"/>
              </a:rPr>
              <a:t>Simplifies the application develop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  <a:ea typeface="굴림"/>
              </a:rPr>
              <a:t>Application writers do not need to write or debug embedded code for the mo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Applications run on less-constrained mas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굴림"/>
              </a:rPr>
              <a:t>Enables significant code re-use across applic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  <a:ea typeface="굴림"/>
              </a:rPr>
              <a:t>Simple, generic, and re-usable mote t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Multiple applications can run concurrently with simplified mote functiona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Robust and scalable network sub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Networking functionality is generic enough to support various types of applications which improves network re-usabi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A6169-5C19-43E2-921B-E93D0A3556A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533520" y="1523880"/>
            <a:ext cx="807696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More bits communicated than necessary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33520" y="1523880"/>
            <a:ext cx="624816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Communication over longer hop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257800" y="2590920"/>
            <a:ext cx="380880" cy="380880"/>
          </a:xfrm>
          <a:prstGeom prst="ellipse">
            <a:avLst/>
          </a:prstGeom>
          <a:noFill/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971800" y="3086280"/>
            <a:ext cx="380880" cy="380880"/>
          </a:xfrm>
          <a:prstGeom prst="ellipse">
            <a:avLst/>
          </a:prstGeom>
          <a:noFill/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295280" y="3505320"/>
            <a:ext cx="1752480" cy="1218600"/>
            <a:chOff x="1295280" y="3505320"/>
            <a:chExt cx="1752480" cy="1218600"/>
          </a:xfrm>
        </p:grpSpPr>
        <p:sp>
          <p:nvSpPr>
            <p:cNvPr id="153" name=""/>
            <p:cNvSpPr/>
            <p:nvPr/>
          </p:nvSpPr>
          <p:spPr>
            <a:xfrm>
              <a:off x="1295280" y="3505320"/>
              <a:ext cx="380880" cy="380880"/>
            </a:xfrm>
            <a:prstGeom prst="ellipse">
              <a:avLst/>
            </a:prstGeom>
            <a:noFill/>
            <a:ln w="93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904760" y="3962160"/>
              <a:ext cx="380880" cy="380880"/>
            </a:xfrm>
            <a:prstGeom prst="ellipse">
              <a:avLst/>
            </a:prstGeom>
            <a:noFill/>
            <a:ln w="93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666880" y="4343400"/>
              <a:ext cx="380880" cy="380520"/>
            </a:xfrm>
            <a:prstGeom prst="ellipse">
              <a:avLst/>
            </a:prstGeom>
            <a:noFill/>
            <a:ln w="93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Times New Roman"/>
                <a:ea typeface="굴림"/>
              </a:rPr>
              <a:t>Challenges</a:t>
            </a: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1123920" y="2133720"/>
            <a:ext cx="4743360" cy="264924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228600" y="3505320"/>
            <a:ext cx="1371600" cy="865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59" name="" descr=""/>
          <p:cNvPicPr/>
          <p:nvPr/>
        </p:nvPicPr>
        <p:blipFill>
          <a:blip r:embed="rId3"/>
          <a:stretch/>
        </p:blipFill>
        <p:spPr>
          <a:xfrm>
            <a:off x="1143000" y="4038480"/>
            <a:ext cx="1371600" cy="914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60" name="" descr=""/>
          <p:cNvPicPr/>
          <p:nvPr/>
        </p:nvPicPr>
        <p:blipFill>
          <a:blip r:embed="rId4"/>
          <a:stretch/>
        </p:blipFill>
        <p:spPr>
          <a:xfrm>
            <a:off x="2057400" y="4572000"/>
            <a:ext cx="1371600" cy="914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161" name=""/>
          <p:cNvGrpSpPr/>
          <p:nvPr/>
        </p:nvGrpSpPr>
        <p:grpSpPr>
          <a:xfrm>
            <a:off x="1143000" y="3276720"/>
            <a:ext cx="1980720" cy="1447200"/>
            <a:chOff x="1143000" y="3276720"/>
            <a:chExt cx="1980720" cy="1447200"/>
          </a:xfrm>
        </p:grpSpPr>
        <p:sp>
          <p:nvSpPr>
            <p:cNvPr id="162" name=""/>
            <p:cNvSpPr/>
            <p:nvPr/>
          </p:nvSpPr>
          <p:spPr>
            <a:xfrm>
              <a:off x="2666880" y="4267080"/>
              <a:ext cx="456840" cy="456840"/>
            </a:xfrm>
            <a:prstGeom prst="flowChartMultidocumen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752480" y="3809880"/>
              <a:ext cx="456840" cy="456840"/>
            </a:xfrm>
            <a:prstGeom prst="flowChartMultidocumen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143000" y="3276720"/>
              <a:ext cx="456840" cy="456840"/>
            </a:xfrm>
            <a:prstGeom prst="flowChartMultidocumen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1600200" y="2781000"/>
            <a:ext cx="3657960" cy="1714680"/>
            <a:chOff x="1600200" y="2781000"/>
            <a:chExt cx="3657960" cy="1714680"/>
          </a:xfrm>
        </p:grpSpPr>
        <p:cxnSp>
          <p:nvCxnSpPr>
            <p:cNvPr id="166" name=""/>
            <p:cNvCxnSpPr>
              <a:stCxn id="164" idx="3"/>
              <a:endCxn id="150" idx="2"/>
            </p:cNvCxnSpPr>
            <p:nvPr/>
          </p:nvCxnSpPr>
          <p:spPr>
            <a:xfrm flipV="1">
              <a:off x="1600200" y="2781000"/>
              <a:ext cx="3658320" cy="724320"/>
            </a:xfrm>
            <a:prstGeom prst="curvedConnector5">
              <a:avLst>
                <a:gd name="adj1" fmla="val 49995"/>
                <a:gd name="adj2" fmla="val 49975"/>
                <a:gd name="adj3" fmla="val 49995"/>
              </a:avLst>
            </a:prstGeom>
            <a:ln w="38160">
              <a:solidFill>
                <a:srgbClr val="ff9900"/>
              </a:solidFill>
              <a:miter/>
              <a:tailEnd len="med" type="triangle" w="med"/>
            </a:ln>
          </p:spPr>
        </p:cxnSp>
        <p:cxnSp>
          <p:nvCxnSpPr>
            <p:cNvPr id="167" name=""/>
            <p:cNvCxnSpPr>
              <a:stCxn id="163" idx="3"/>
              <a:endCxn id="150" idx="2"/>
            </p:cNvCxnSpPr>
            <p:nvPr/>
          </p:nvCxnSpPr>
          <p:spPr>
            <a:xfrm flipV="1">
              <a:off x="2210040" y="2781000"/>
              <a:ext cx="3048480" cy="1257840"/>
            </a:xfrm>
            <a:prstGeom prst="curvedConnector5">
              <a:avLst>
                <a:gd name="adj1" fmla="val 49994"/>
                <a:gd name="adj2" fmla="val 49985"/>
                <a:gd name="adj3" fmla="val 49994"/>
              </a:avLst>
            </a:prstGeom>
            <a:ln w="38160">
              <a:solidFill>
                <a:srgbClr val="ff9900"/>
              </a:solidFill>
              <a:miter/>
              <a:tailEnd len="med" type="triangle" w="med"/>
            </a:ln>
          </p:spPr>
        </p:cxnSp>
        <p:cxnSp>
          <p:nvCxnSpPr>
            <p:cNvPr id="168" name=""/>
            <p:cNvCxnSpPr>
              <a:stCxn id="162" idx="3"/>
              <a:endCxn id="150" idx="2"/>
            </p:cNvCxnSpPr>
            <p:nvPr/>
          </p:nvCxnSpPr>
          <p:spPr>
            <a:xfrm flipV="1">
              <a:off x="3124440" y="2781000"/>
              <a:ext cx="2134080" cy="1715040"/>
            </a:xfrm>
            <a:prstGeom prst="curvedConnector5">
              <a:avLst>
                <a:gd name="adj1" fmla="val 49991"/>
                <a:gd name="adj2" fmla="val 49989"/>
                <a:gd name="adj3" fmla="val 49991"/>
              </a:avLst>
            </a:prstGeom>
            <a:ln w="38160">
              <a:solidFill>
                <a:srgbClr val="ff9900"/>
              </a:solidFill>
              <a:miter/>
              <a:tailEnd len="med" type="triangle" w="med"/>
            </a:ln>
          </p:spPr>
        </p:cxnSp>
      </p:grpSp>
      <p:grpSp>
        <p:nvGrpSpPr>
          <p:cNvPr id="169" name=""/>
          <p:cNvGrpSpPr/>
          <p:nvPr/>
        </p:nvGrpSpPr>
        <p:grpSpPr>
          <a:xfrm>
            <a:off x="1600200" y="2781000"/>
            <a:ext cx="3657240" cy="1714680"/>
            <a:chOff x="1600200" y="2781000"/>
            <a:chExt cx="3657240" cy="1714680"/>
          </a:xfrm>
        </p:grpSpPr>
        <p:grpSp>
          <p:nvGrpSpPr>
            <p:cNvPr id="170" name=""/>
            <p:cNvGrpSpPr/>
            <p:nvPr/>
          </p:nvGrpSpPr>
          <p:grpSpPr>
            <a:xfrm>
              <a:off x="1600200" y="3733560"/>
              <a:ext cx="990720" cy="762120"/>
              <a:chOff x="1600200" y="3733560"/>
              <a:chExt cx="990720" cy="762120"/>
            </a:xfrm>
          </p:grpSpPr>
          <p:sp>
            <p:nvSpPr>
              <p:cNvPr id="171" name=""/>
              <p:cNvSpPr/>
              <p:nvPr/>
            </p:nvSpPr>
            <p:spPr>
              <a:xfrm>
                <a:off x="1600200" y="3733560"/>
                <a:ext cx="990720" cy="7621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1600200" y="3962160"/>
                <a:ext cx="99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굴림"/>
                  </a:rPr>
                  <a:t>Fusion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173" name=""/>
            <p:cNvCxnSpPr>
              <a:stCxn id="162" idx="1"/>
              <a:endCxn id="172" idx="2"/>
            </p:cNvCxnSpPr>
            <p:nvPr/>
          </p:nvCxnSpPr>
          <p:spPr>
            <a:xfrm flipH="1" flipV="1">
              <a:off x="2095200" y="4266360"/>
              <a:ext cx="572400" cy="229320"/>
            </a:xfrm>
            <a:prstGeom prst="straightConnector1">
              <a:avLst/>
            </a:prstGeom>
            <a:ln w="38160">
              <a:solidFill>
                <a:srgbClr val="333399"/>
              </a:solidFill>
              <a:miter/>
              <a:tailEnd len="med" type="triangle" w="med"/>
            </a:ln>
          </p:spPr>
        </p:cxnSp>
        <p:cxnSp>
          <p:nvCxnSpPr>
            <p:cNvPr id="174" name=""/>
            <p:cNvCxnSpPr>
              <a:stCxn id="164" idx="3"/>
              <a:endCxn id="172" idx="0"/>
            </p:cNvCxnSpPr>
            <p:nvPr/>
          </p:nvCxnSpPr>
          <p:spPr>
            <a:xfrm>
              <a:off x="1600200" y="3504960"/>
              <a:ext cx="496080" cy="457920"/>
            </a:xfrm>
            <a:prstGeom prst="straightConnector1">
              <a:avLst/>
            </a:prstGeom>
            <a:ln w="38160">
              <a:solidFill>
                <a:srgbClr val="333399"/>
              </a:solidFill>
              <a:miter/>
              <a:tailEnd len="med" type="triangle" w="med"/>
            </a:ln>
          </p:spPr>
        </p:cxnSp>
        <p:cxnSp>
          <p:nvCxnSpPr>
            <p:cNvPr id="175" name=""/>
            <p:cNvCxnSpPr>
              <a:stCxn id="171" idx="7"/>
              <a:endCxn id="150" idx="2"/>
            </p:cNvCxnSpPr>
            <p:nvPr/>
          </p:nvCxnSpPr>
          <p:spPr>
            <a:xfrm flipH="1" flipV="1" rot="5400000">
              <a:off x="3319560" y="1907280"/>
              <a:ext cx="1064160" cy="2811600"/>
            </a:xfrm>
            <a:prstGeom prst="curvedConnector2">
              <a:avLst/>
            </a:prstGeom>
            <a:ln w="76320">
              <a:solidFill>
                <a:srgbClr val="333399"/>
              </a:solidFill>
              <a:miter/>
              <a:tailEnd len="med" type="triangle" w="med"/>
            </a:ln>
          </p:spPr>
        </p:cxnSp>
      </p:grpSp>
      <p:sp>
        <p:nvSpPr>
          <p:cNvPr id="176" name=""/>
          <p:cNvSpPr/>
          <p:nvPr/>
        </p:nvSpPr>
        <p:spPr>
          <a:xfrm>
            <a:off x="4343400" y="4419720"/>
            <a:ext cx="4648320" cy="1828800"/>
          </a:xfrm>
          <a:prstGeom prst="rect">
            <a:avLst/>
          </a:prstGeom>
          <a:solidFill>
            <a:srgbClr val="dddddd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Not an iss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Typically the diameter of the mote tier will be sm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Can compensate by more aggressive processing at the mo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1620720" y="3275640"/>
            <a:ext cx="1541520" cy="1067400"/>
            <a:chOff x="1620720" y="3275640"/>
            <a:chExt cx="1541520" cy="1067400"/>
          </a:xfrm>
        </p:grpSpPr>
        <p:cxnSp>
          <p:nvCxnSpPr>
            <p:cNvPr id="178" name=""/>
            <p:cNvCxnSpPr>
              <a:stCxn id="151" idx="2"/>
            </p:cNvCxnSpPr>
            <p:nvPr/>
          </p:nvCxnSpPr>
          <p:spPr>
            <a:xfrm flipV="1" rot="10800000">
              <a:off x="1620720" y="3275280"/>
              <a:ext cx="1351080" cy="284400"/>
            </a:xfrm>
            <a:prstGeom prst="curvedConnector5">
              <a:avLst>
                <a:gd name="adj1" fmla="val 49946"/>
                <a:gd name="adj2" fmla="val 49936"/>
                <a:gd name="adj3" fmla="val 49946"/>
              </a:avLst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</p:cxnSp>
        <p:cxnSp>
          <p:nvCxnSpPr>
            <p:cNvPr id="179" name=""/>
            <p:cNvCxnSpPr>
              <a:stCxn id="151" idx="3"/>
            </p:cNvCxnSpPr>
            <p:nvPr/>
          </p:nvCxnSpPr>
          <p:spPr>
            <a:xfrm rot="5400000">
              <a:off x="2324880" y="3315960"/>
              <a:ext cx="606960" cy="797760"/>
            </a:xfrm>
            <a:prstGeom prst="curvedConnector2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</p:cxnSp>
        <p:cxnSp>
          <p:nvCxnSpPr>
            <p:cNvPr id="180" name=""/>
            <p:cNvCxnSpPr>
              <a:stCxn id="151" idx="4"/>
            </p:cNvCxnSpPr>
            <p:nvPr/>
          </p:nvCxnSpPr>
          <p:spPr>
            <a:xfrm rot="5400000">
              <a:off x="2571120" y="3752280"/>
              <a:ext cx="876600" cy="30564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</p:cxnSp>
        <p:cxnSp>
          <p:nvCxnSpPr>
            <p:cNvPr id="181" name=""/>
            <p:cNvCxnSpPr>
              <a:stCxn id="153" idx="7"/>
              <a:endCxn id="151" idx="2"/>
            </p:cNvCxnSpPr>
            <p:nvPr/>
          </p:nvCxnSpPr>
          <p:spPr>
            <a:xfrm flipH="1" flipV="1" rot="5400000">
              <a:off x="2153880" y="2742840"/>
              <a:ext cx="284400" cy="1351080"/>
            </a:xfrm>
            <a:prstGeom prst="curvedConnector2">
              <a:avLst/>
            </a:prstGeom>
            <a:ln w="38160">
              <a:solidFill>
                <a:srgbClr val="ff9900"/>
              </a:solidFill>
              <a:miter/>
              <a:tailEnd len="med" type="triangle" w="med"/>
            </a:ln>
          </p:spPr>
        </p:cxnSp>
        <p:cxnSp>
          <p:nvCxnSpPr>
            <p:cNvPr id="182" name=""/>
            <p:cNvCxnSpPr>
              <a:stCxn id="154" idx="7"/>
              <a:endCxn id="151" idx="3"/>
            </p:cNvCxnSpPr>
            <p:nvPr/>
          </p:nvCxnSpPr>
          <p:spPr>
            <a:xfrm flipH="1" flipV="1" rot="5400000">
              <a:off x="2325240" y="3315600"/>
              <a:ext cx="606960" cy="797760"/>
            </a:xfrm>
            <a:prstGeom prst="curvedConnector5">
              <a:avLst>
                <a:gd name="adj1" fmla="val 49970"/>
                <a:gd name="adj2" fmla="val 49977"/>
                <a:gd name="adj3" fmla="val 49970"/>
              </a:avLst>
            </a:prstGeom>
            <a:ln w="38160">
              <a:solidFill>
                <a:srgbClr val="ff9900"/>
              </a:solidFill>
              <a:miter/>
              <a:tailEnd len="med" type="triangle" w="med"/>
            </a:ln>
          </p:spPr>
        </p:cxnSp>
        <p:cxnSp>
          <p:nvCxnSpPr>
            <p:cNvPr id="183" name=""/>
            <p:cNvCxnSpPr>
              <a:stCxn id="155" idx="0"/>
              <a:endCxn id="151" idx="4"/>
            </p:cNvCxnSpPr>
            <p:nvPr/>
          </p:nvCxnSpPr>
          <p:spPr>
            <a:xfrm flipH="1" flipV="1" rot="5400000">
              <a:off x="2571480" y="3751920"/>
              <a:ext cx="876600" cy="305640"/>
            </a:xfrm>
            <a:prstGeom prst="curvedConnector5">
              <a:avLst>
                <a:gd name="adj1" fmla="val 16844"/>
                <a:gd name="adj2" fmla="val 50000"/>
                <a:gd name="adj3" fmla="val 16844"/>
              </a:avLst>
            </a:prstGeom>
            <a:ln w="38160">
              <a:solidFill>
                <a:srgbClr val="ff9900"/>
              </a:solidFill>
              <a:miter/>
              <a:tailEnd len="med" type="triangle" w="med"/>
            </a:ln>
          </p:spPr>
        </p:cxnSp>
      </p:grpSp>
      <p:sp>
        <p:nvSpPr>
          <p:cNvPr id="184" name=""/>
          <p:cNvSpPr/>
          <p:nvPr/>
        </p:nvSpPr>
        <p:spPr>
          <a:xfrm>
            <a:off x="2133720" y="3276720"/>
            <a:ext cx="838080" cy="838080"/>
          </a:xfrm>
          <a:prstGeom prst="noSmoking">
            <a:avLst>
              <a:gd name="adj" fmla="val 12500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1600200" y="2781000"/>
            <a:ext cx="3657960" cy="1714680"/>
            <a:chOff x="1600200" y="2781000"/>
            <a:chExt cx="3657960" cy="1714680"/>
          </a:xfrm>
        </p:grpSpPr>
        <p:cxnSp>
          <p:nvCxnSpPr>
            <p:cNvPr id="186" name=""/>
            <p:cNvCxnSpPr/>
            <p:nvPr/>
          </p:nvCxnSpPr>
          <p:spPr>
            <a:xfrm flipV="1">
              <a:off x="1600200" y="2781000"/>
              <a:ext cx="3658320" cy="724320"/>
            </a:xfrm>
            <a:prstGeom prst="curvedConnector5">
              <a:avLst>
                <a:gd name="adj1" fmla="val 49995"/>
                <a:gd name="adj2" fmla="val 49975"/>
                <a:gd name="adj3" fmla="val 49995"/>
              </a:avLst>
            </a:prstGeom>
            <a:ln w="76320">
              <a:solidFill>
                <a:srgbClr val="ff9900"/>
              </a:solidFill>
              <a:miter/>
              <a:tailEnd len="med" type="triangle" w="med"/>
            </a:ln>
          </p:spPr>
        </p:cxnSp>
        <p:cxnSp>
          <p:nvCxnSpPr>
            <p:cNvPr id="187" name=""/>
            <p:cNvCxnSpPr/>
            <p:nvPr/>
          </p:nvCxnSpPr>
          <p:spPr>
            <a:xfrm flipV="1">
              <a:off x="2210040" y="2781000"/>
              <a:ext cx="3048480" cy="1257840"/>
            </a:xfrm>
            <a:prstGeom prst="curvedConnector5">
              <a:avLst>
                <a:gd name="adj1" fmla="val 49994"/>
                <a:gd name="adj2" fmla="val 49985"/>
                <a:gd name="adj3" fmla="val 49994"/>
              </a:avLst>
            </a:prstGeom>
            <a:ln w="76320">
              <a:solidFill>
                <a:srgbClr val="ff9900"/>
              </a:solidFill>
              <a:miter/>
              <a:tailEnd len="med" type="triangle" w="med"/>
            </a:ln>
          </p:spPr>
        </p:cxnSp>
        <p:cxnSp>
          <p:nvCxnSpPr>
            <p:cNvPr id="188" name=""/>
            <p:cNvCxnSpPr/>
            <p:nvPr/>
          </p:nvCxnSpPr>
          <p:spPr>
            <a:xfrm flipV="1">
              <a:off x="3124440" y="2781000"/>
              <a:ext cx="2134080" cy="1715040"/>
            </a:xfrm>
            <a:prstGeom prst="curvedConnector5">
              <a:avLst>
                <a:gd name="adj1" fmla="val 49991"/>
                <a:gd name="adj2" fmla="val 49989"/>
                <a:gd name="adj3" fmla="val 49991"/>
              </a:avLst>
            </a:prstGeom>
            <a:ln w="76320">
              <a:solidFill>
                <a:srgbClr val="ff9900"/>
              </a:solidFill>
              <a:miter/>
              <a:tailEnd len="med" type="triangle" w="med"/>
            </a:ln>
          </p:spPr>
        </p:cxnSp>
      </p:grpSp>
      <p:sp>
        <p:nvSpPr>
          <p:cNvPr id="189" name=""/>
          <p:cNvSpPr/>
          <p:nvPr/>
        </p:nvSpPr>
        <p:spPr>
          <a:xfrm>
            <a:off x="4343400" y="3352680"/>
            <a:ext cx="4648320" cy="3048120"/>
          </a:xfrm>
          <a:prstGeom prst="rect">
            <a:avLst/>
          </a:prstGeom>
          <a:solidFill>
            <a:srgbClr val="dddddd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In most deployments, there is a significan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tempor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correl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  <a:ea typeface="굴림"/>
              </a:rPr>
              <a:t>Mote-local processing can achieve significant compre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…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but littl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spati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correl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Little additional gains from mote tier fu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  <a:ea typeface="굴림"/>
              </a:rPr>
              <a:t>Mote-local processing provides most of the aggregation benefits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  <a:ea typeface="굴림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3124080"/>
            <a:ext cx="4572000" cy="60984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굴림"/>
              </a:rPr>
              <a:t>The cost will be small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34B85-D5D8-4839-88FA-58B60A6F63F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4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indefinite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indefinite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8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indefinite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0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indefinite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2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indefinite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4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indefinite"/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6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indefinite"/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8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indefinite"/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0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indefinite"/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2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indefinite"/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4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indefinite"/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6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indefinite"/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8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indefinite"/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0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indefinite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2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indefinite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4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indefinite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6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indefinite"/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8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indefinite"/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0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indefinite"/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2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indefinite"/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4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indefinite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6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indefinite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8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indefinite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0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indefinite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2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indefinite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Times New Roman"/>
                <a:ea typeface="굴림"/>
              </a:rPr>
              <a:t>System Overview</a:t>
            </a: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028880" y="3124080"/>
            <a:ext cx="2514600" cy="480960"/>
          </a:xfrm>
          <a:prstGeom prst="rect">
            <a:avLst/>
          </a:prstGeom>
          <a:solidFill>
            <a:srgbClr val="ffcc66"/>
          </a:solidFill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Tasking Sub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410080" y="3124080"/>
            <a:ext cx="2895840" cy="480960"/>
          </a:xfrm>
          <a:prstGeom prst="rect">
            <a:avLst/>
          </a:prstGeom>
          <a:solidFill>
            <a:srgbClr val="00cc99"/>
          </a:solidFill>
          <a:ln w="2844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Networking Sub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52280" y="4290840"/>
            <a:ext cx="1371600" cy="533520"/>
          </a:xfrm>
          <a:prstGeom prst="rect">
            <a:avLst/>
          </a:prstGeom>
          <a:solidFill>
            <a:srgbClr val="ffff99"/>
          </a:solidFill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Task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Langu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4290840"/>
            <a:ext cx="1371600" cy="533520"/>
          </a:xfrm>
          <a:prstGeom prst="rect">
            <a:avLst/>
          </a:prstGeom>
          <a:solidFill>
            <a:srgbClr val="ffff99"/>
          </a:solidFill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Task Pars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048120" y="4290840"/>
            <a:ext cx="1371600" cy="533520"/>
          </a:xfrm>
          <a:prstGeom prst="rect">
            <a:avLst/>
          </a:prstGeom>
          <a:solidFill>
            <a:srgbClr val="ffff99"/>
          </a:solidFill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 anchorCtr="1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Tasklets and Run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696080" y="4290840"/>
            <a:ext cx="13716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Reli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Trans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648320" y="4290840"/>
            <a:ext cx="13716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 anchorCtr="1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Rou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095880" y="4290840"/>
            <a:ext cx="152424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Task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Dissemin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0" name=""/>
          <p:cNvCxnSpPr>
            <a:stCxn id="192" idx="2"/>
            <a:endCxn id="194" idx="0"/>
          </p:cNvCxnSpPr>
          <p:nvPr/>
        </p:nvCxnSpPr>
        <p:spPr>
          <a:xfrm flipH="1">
            <a:off x="837720" y="3619080"/>
            <a:ext cx="1448640" cy="672120"/>
          </a:xfrm>
          <a:prstGeom prst="straightConnector1">
            <a:avLst/>
          </a:prstGeom>
          <a:ln w="28440">
            <a:solidFill>
              <a:srgbClr val="cc6600"/>
            </a:solidFill>
            <a:miter/>
          </a:ln>
        </p:spPr>
      </p:cxnSp>
      <p:cxnSp>
        <p:nvCxnSpPr>
          <p:cNvPr id="201" name=""/>
          <p:cNvCxnSpPr>
            <a:stCxn id="192" idx="2"/>
            <a:endCxn id="195" idx="0"/>
          </p:cNvCxnSpPr>
          <p:nvPr/>
        </p:nvCxnSpPr>
        <p:spPr>
          <a:xfrm>
            <a:off x="2285640" y="3619080"/>
            <a:ext cx="1080" cy="672120"/>
          </a:xfrm>
          <a:prstGeom prst="straightConnector1">
            <a:avLst/>
          </a:prstGeom>
          <a:ln w="28440">
            <a:solidFill>
              <a:srgbClr val="cc6600"/>
            </a:solidFill>
            <a:miter/>
          </a:ln>
        </p:spPr>
      </p:cxnSp>
      <p:cxnSp>
        <p:nvCxnSpPr>
          <p:cNvPr id="202" name=""/>
          <p:cNvCxnSpPr>
            <a:stCxn id="192" idx="2"/>
            <a:endCxn id="196" idx="0"/>
          </p:cNvCxnSpPr>
          <p:nvPr/>
        </p:nvCxnSpPr>
        <p:spPr>
          <a:xfrm>
            <a:off x="2286000" y="3619080"/>
            <a:ext cx="1448640" cy="672120"/>
          </a:xfrm>
          <a:prstGeom prst="straightConnector1">
            <a:avLst/>
          </a:prstGeom>
          <a:ln w="28440">
            <a:solidFill>
              <a:srgbClr val="cc6600"/>
            </a:solidFill>
            <a:miter/>
          </a:ln>
        </p:spPr>
      </p:cxnSp>
      <p:cxnSp>
        <p:nvCxnSpPr>
          <p:cNvPr id="203" name=""/>
          <p:cNvCxnSpPr>
            <a:stCxn id="193" idx="2"/>
            <a:endCxn id="199" idx="0"/>
          </p:cNvCxnSpPr>
          <p:nvPr/>
        </p:nvCxnSpPr>
        <p:spPr>
          <a:xfrm>
            <a:off x="6857640" y="3619080"/>
            <a:ext cx="1080" cy="672120"/>
          </a:xfrm>
          <a:prstGeom prst="straightConnector1">
            <a:avLst/>
          </a:prstGeom>
          <a:ln w="28440">
            <a:solidFill>
              <a:srgbClr val="008080"/>
            </a:solidFill>
            <a:miter/>
          </a:ln>
        </p:spPr>
      </p:cxnSp>
      <p:cxnSp>
        <p:nvCxnSpPr>
          <p:cNvPr id="204" name=""/>
          <p:cNvCxnSpPr>
            <a:stCxn id="193" idx="2"/>
            <a:endCxn id="198" idx="0"/>
          </p:cNvCxnSpPr>
          <p:nvPr/>
        </p:nvCxnSpPr>
        <p:spPr>
          <a:xfrm flipH="1">
            <a:off x="5333400" y="3619080"/>
            <a:ext cx="1524600" cy="672120"/>
          </a:xfrm>
          <a:prstGeom prst="straightConnector1">
            <a:avLst/>
          </a:prstGeom>
          <a:ln w="28440">
            <a:solidFill>
              <a:srgbClr val="008080"/>
            </a:solidFill>
            <a:miter/>
          </a:ln>
        </p:spPr>
      </p:cxnSp>
      <p:cxnSp>
        <p:nvCxnSpPr>
          <p:cNvPr id="205" name=""/>
          <p:cNvCxnSpPr>
            <a:stCxn id="193" idx="2"/>
            <a:endCxn id="197" idx="0"/>
          </p:cNvCxnSpPr>
          <p:nvPr/>
        </p:nvCxnSpPr>
        <p:spPr>
          <a:xfrm>
            <a:off x="6857640" y="3619080"/>
            <a:ext cx="1524600" cy="672120"/>
          </a:xfrm>
          <a:prstGeom prst="straightConnector1">
            <a:avLst/>
          </a:prstGeom>
          <a:ln w="28440">
            <a:solidFill>
              <a:srgbClr val="008080"/>
            </a:solidFill>
            <a:miter/>
          </a:ln>
        </p:spPr>
      </p:cxnSp>
      <p:sp>
        <p:nvSpPr>
          <p:cNvPr id="206" name=""/>
          <p:cNvSpPr/>
          <p:nvPr/>
        </p:nvSpPr>
        <p:spPr>
          <a:xfrm>
            <a:off x="3301920" y="1828800"/>
            <a:ext cx="2514600" cy="480960"/>
          </a:xfrm>
          <a:prstGeom prst="rect">
            <a:avLst/>
          </a:prstGeom>
          <a:solidFill>
            <a:srgbClr val="9999ff"/>
          </a:solidFill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굴림"/>
              </a:rPr>
              <a:t>Tene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7" name=""/>
          <p:cNvCxnSpPr>
            <a:stCxn id="206" idx="2"/>
            <a:endCxn id="192" idx="0"/>
          </p:cNvCxnSpPr>
          <p:nvPr/>
        </p:nvCxnSpPr>
        <p:spPr>
          <a:xfrm flipH="1">
            <a:off x="2285280" y="2328840"/>
            <a:ext cx="2274120" cy="781920"/>
          </a:xfrm>
          <a:prstGeom prst="straightConnector1">
            <a:avLst/>
          </a:prstGeom>
          <a:ln w="28440">
            <a:solidFill>
              <a:srgbClr val="333399"/>
            </a:solidFill>
            <a:miter/>
          </a:ln>
        </p:spPr>
      </p:cxnSp>
      <p:cxnSp>
        <p:nvCxnSpPr>
          <p:cNvPr id="208" name=""/>
          <p:cNvCxnSpPr>
            <a:stCxn id="206" idx="2"/>
            <a:endCxn id="193" idx="0"/>
          </p:cNvCxnSpPr>
          <p:nvPr/>
        </p:nvCxnSpPr>
        <p:spPr>
          <a:xfrm>
            <a:off x="4559040" y="2328840"/>
            <a:ext cx="2299320" cy="781920"/>
          </a:xfrm>
          <a:prstGeom prst="straightConnector1">
            <a:avLst/>
          </a:prstGeom>
          <a:ln w="28440">
            <a:solidFill>
              <a:srgbClr val="333399"/>
            </a:solidFill>
            <a:miter/>
          </a:ln>
        </p:spPr>
      </p:cxnSp>
      <p:grpSp>
        <p:nvGrpSpPr>
          <p:cNvPr id="209" name=""/>
          <p:cNvGrpSpPr/>
          <p:nvPr/>
        </p:nvGrpSpPr>
        <p:grpSpPr>
          <a:xfrm>
            <a:off x="5105520" y="3124080"/>
            <a:ext cx="3581280" cy="1219320"/>
            <a:chOff x="5105520" y="3124080"/>
            <a:chExt cx="3581280" cy="1219320"/>
          </a:xfrm>
        </p:grpSpPr>
        <p:sp>
          <p:nvSpPr>
            <p:cNvPr id="210" name=""/>
            <p:cNvSpPr/>
            <p:nvPr/>
          </p:nvSpPr>
          <p:spPr>
            <a:xfrm>
              <a:off x="5105520" y="3124080"/>
              <a:ext cx="3581280" cy="12193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cc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257800" y="3400200"/>
              <a:ext cx="3428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굴림"/>
                </a:rPr>
                <a:t>How to disseminate tasks and deliver responses?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457200" y="3124080"/>
            <a:ext cx="3581280" cy="1219320"/>
            <a:chOff x="457200" y="3124080"/>
            <a:chExt cx="3581280" cy="1219320"/>
          </a:xfrm>
        </p:grpSpPr>
        <p:sp>
          <p:nvSpPr>
            <p:cNvPr id="213" name=""/>
            <p:cNvSpPr/>
            <p:nvPr/>
          </p:nvSpPr>
          <p:spPr>
            <a:xfrm>
              <a:off x="457200" y="3124080"/>
              <a:ext cx="3581280" cy="121932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14240" y="3537000"/>
              <a:ext cx="3200400" cy="39888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굴림"/>
                </a:rPr>
                <a:t>How to express tasks?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E17D8-FE4C-474F-982E-C5EB6312440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17 4.9711E-006 L 0.00417 0.33294 E">
                                      <p:cBhvr>
                                        <p:cTn id="339" dur="500" fill="hold"/>
                                        <p:tgtEl>
                                          <p:spTgt spid="2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0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indefinite"/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4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295 E">
                                      <p:cBhvr>
                                        <p:cTn id="345" dur="500" fill="hold"/>
                                        <p:tgtEl>
                                          <p:spTgt spid="2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6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indefinite"/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500"/>
                            </p:stCondLst>
                            <p:childTnLst>
                              <p:par>
                                <p:cTn id="351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7T20:21:54Z</dcterms:created>
  <dc:creator>Jeongyeup Paek</dc:creator>
  <dc:description/>
  <cp:keywords>Tenet Tier Wireless Sensor Network Architecture ENL CENS</cp:keywords>
  <dc:language>en-US</dc:language>
  <cp:lastModifiedBy>Jeongyeup Paek</cp:lastModifiedBy>
  <dcterms:modified xsi:type="dcterms:W3CDTF">2006-11-03T18:01:01Z</dcterms:modified>
  <cp:revision>306</cp:revision>
  <dc:subject>The Tenet Architecture for Tiered Sensor Networks</dc:subject>
  <dc:title>Tenet Sensys 2006</dc:title>
</cp:coreProperties>
</file>